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648-189F-40D1-A7E0-6979B2F2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611-6483-4A48-9019-8B179BC6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EB3-8530-40BA-A422-A0A63687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5D6-52EF-43E9-8B62-41A46DCA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E699-BF0B-40C7-B9A5-30D210F8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192A-453C-4571-97FA-0C17E6FC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B01C-20BE-4F61-9F5D-B1B1EEAD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D034-9EC1-44E2-847D-0145D244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4DAB-B272-4A34-9837-F731293C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066D-32B3-4063-827A-AECCE933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F1E4-CBE6-40DB-A868-3A4107D9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4C2-1A79-4617-9308-5A99DA46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04AA-1046-40F3-9F67-5579E1EC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5F0F-A8BC-4FCE-AD7F-4C071DE3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6D8C-89E9-4FCD-B7A2-DBD988EE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48EE-AF3E-4BE9-A479-C7CFAFCF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F0AF-DD32-4B8A-838F-226223B1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9A9-998C-4CB1-BB99-C4DE5551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C6E-D3FC-432B-BCDB-99244A37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849-F4D6-4FEA-B0DC-18371DB2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354-17B4-44CF-A25C-B617E629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4DA-F274-4594-8A39-2E09692D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ACC-EC68-441E-A8A9-AD5EB7C0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2D2-8958-4A05-9C0B-85EB146C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DD94-24CD-470F-9870-518B06C1969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FCD9-B39E-4A3A-B944-E26A7D8B7CF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russcan.jotti.org/en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urnost na Interne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ograd, 19.03.201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žuriranje softver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Automatsko vs ručno ažuriranj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S Security Baseline analyz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Napraviti listu instaliranih programa na računar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dentitet na Interne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Gubitkom prava pristupa vašim mail nalozima gubite pristup svim ostalim resursima vezanim za njega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Rezervne varijante u slučaju krađe identite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Mail nalozi kod lokalnih Internet provajde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Mail nalozi na javnim domenima (Yahoo, Gmail, HotMail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Uvek imajte 2 mail nalog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Wireless prist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Nikada ne pristupati mrežama bez lozink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Podesite vaš wireless ruter sa najačom zaštitom: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PA2 PSK (Wi-Fi Protected Access II pre-shared key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Preporuke za web ad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Nikada ne korisitite FTP – koristite SFT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Pri izboru provajdera proverite da li je u prošlosti imao sigurnosnih problem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Sigurnost vašeg web sajta najviše zavisi od kvaliteta vašeg hosting provajde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Za pristup administrativnim alatima za održavanje sajta uvek koristite SSL (HTTP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ruštvene mrež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Poštovati pravila koja smo definisali kako bi smanjili opasnost na minimu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Ne otvarajte linkove i fajlove ako niste sigurni da su baš vama namenjen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Ako SSL opcija postoji koristiti je obavezn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Administratorsko pra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Definicija poj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Dozvola za sve moguće akcije na računar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Grupa Administrators – članstvo omogućava totalnu kontrolu računar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Korisnici i lozin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Proveriti koji su korisnici kreirani na računar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One koji se ne koriste obrisati (sem sistemskih naloga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Svaki nalog mora da ima lozink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Lozinke moraju da budu kompleks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Korisnika “Administrator” na WinXP izbaciti disable-ovat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Zaštititi pristup računaru firewall-o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Zabraniti bilo koji dolazni saobraćaj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Dopustiti samo onaj odlazni saobraćaj saobraćaj koji mi iniciram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Firewall koji se nalazi na uređajima kojim izlazimo na Interne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Firewall koji je deo operativnog sistem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Firewall-ovi drugih proizvođač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ANTIVI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Antivirus – pojam koji ima šire značenje od zaštite od virus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Ne postoji savršeni antivirus progra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Antivirus nas štiti od štetnih programa (virusa, trojanaca, spyware, worms i sl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Antivirus nam pomaže da se ne “upecamo” – phis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Fajlove za koje sumnjamo da su štetni proveriti na online scanner-u </a:t>
            </a:r>
            <a:r>
              <a:rPr b="0" lang="sr-Latn-C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virusscan.jotti.org/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VIRU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Definicije moraju uvek biti ažurirane – podesiti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vakodnevno </a:t>
            </a: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automatsko ažuriranj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Nedeljno skeniranje sistemskog diska je poželjn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Eksterne memorije – uvek skenirati pre nego što krenemo da ih koristim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nternet Brow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Browser nam je glavni alat za komunikaciju sa sadržajima na Internet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Izabrati jedan i upoznati njegove naprednije tehnike zašti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Uvek koristiti najnoviju verziju browser-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MS Internet Explorer spada u najnepouzdanij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Firefox – dosta sigurnosnih dodataka se može instalirat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92929"/>
                </a:solidFill>
                <a:latin typeface="Arial"/>
              </a:rPr>
              <a:t>Chrome – najbrže radi od svi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nternet Browser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Izbegavati opcije “Remember me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Ne snimati lozinke za pristup sajtovi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HTTPS vs HTT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Da li blokirati skript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žuriranje softv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Ažuriranje operativnog siste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Ažuriranje ostalog softver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92929"/>
                </a:solidFill>
                <a:latin typeface="Arial"/>
              </a:rPr>
              <a:t>Instalirati samo one stvari koje nam trebaju – deinstalirati one koje nam ne trebaju – Revo UNINSTALL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2:01:11Z</dcterms:created>
  <dc:creator>Milos Markovic</dc:creator>
  <dc:description/>
  <dc:language>en-US</dc:language>
  <cp:lastModifiedBy>Pedjica</cp:lastModifiedBy>
  <dcterms:modified xsi:type="dcterms:W3CDTF">2011-04-19T11:07:52Z</dcterms:modified>
  <cp:revision>32</cp:revision>
  <dc:subject/>
  <dc:title>Sigurnost na Internetu</dc:title>
</cp:coreProperties>
</file>