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EF9-5C7E-429E-A3C4-DACC2EE4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1F9-BA8C-418A-AB71-3499571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D95-5024-4F09-951D-1DC3E50F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B38-E719-49ED-8CED-2ADA775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7D20-15BE-435B-A6C9-D9CE30AC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0547-ABB6-4ACD-81AE-4DA6428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080-E79E-41E0-A604-8E8DD90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791-E6E0-47BA-9C7E-03AD6D1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4B6-771F-491F-A6A9-0863141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EC2F-209A-4BEE-8323-13C7C8A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7978-F8E0-4BB0-AAFC-87663EB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2C8-6041-413C-996E-D8426E5C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BDA1-B239-4F15-90A0-30882D1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B853-AEFE-478D-A5B1-A68046D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038-73F6-4B95-B208-F1139B8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4A9-154B-4A76-969F-C729D803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5D4-9B66-4847-91C0-41C136D7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FC1-8AFB-4D82-A1CB-8F5D9B51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935-C3F0-4154-BDA5-738AC4E5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FB6-8354-4322-B201-EF939CB7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B83-C49C-478C-BEA4-80515764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4ED-CEFB-4B7E-A1CA-FE8AA1B9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8C2-1AD8-4D2D-9B28-2A90242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896-2CBF-4435-8732-C66332D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FB49-1E88-4AD4-86B2-96B3FEDEDD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618-8AD6-4694-AA13-E0F6542A0A9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russcan.jotti.org/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urnost na Intern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ograd, 19.03.201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žuriranje softver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utomatsko vs ručno ažuriranj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S Security Baseline analyz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apraviti listu instaliranih programa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dentitet na Intern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Gubitkom prava pristupa vašim mail nalozima gubite pristup svim ostalim resursima vezanim za njeg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Rezervne varijante u slučaju krađe identite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ail nalozi kod lokalnih Internet provajde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ail nalozi na javnim domenima (Yahoo, Gmail, HotMai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Uvek imajte 2 mail nalog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Wireless pris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ikada ne pristupati mrežama bez lozink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odesite vaš wireless ruter sa najačom zaštitom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PA2 PSK (Wi-Fi Protected Access II pre-shared ke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Preporuke za web ad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Nikada ne korisitite FTP – koristite SFT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Pri izboru provajdera proverite da li je u prošlosti imao sigurnosnih proble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Sigurnost vašeg web sajta najviše zavisi od kvaliteta vašeg hosting provajde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 pristup administrativnim alatima za održavanje sajta uvek koristite SSL (HTTP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ruštvene mre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oštovati pravila koja smo definisali kako bi smanjili opasnost na minimu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 otvarajte linkove i fajlove ako niste sigurni da su baš vama namenjen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ko SSL opcija postoji koristiti je obavez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dministratorsko pr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efinicija poj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ozvola za sve moguće akcije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Grupa Administrators – članstvo omogućava totalnu kontrolu računa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Korisnici i lozin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roveriti koji su korisnici kreirani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One koji se ne koriste obrisati (sem sistemskih nalog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Svaki nalog mora da ima lozink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Lozinke moraju da budu kompleks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Korisnika “Administrator” na WinXP izbaciti disable-ova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štititi pristup računaru firewall-o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braniti bilo koji dolazni saobraćaj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Dopustiti samo onaj odlazni saobraćaj saobraćaj koji mi iniciram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 koji se nalazi na uređajima kojim izlazimo na Intern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 koji je deo operativnog siste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-ovi drugih proizvođač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NTI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– pojam koji ima šire značenje od zaštite od virus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Ne postoji savršeni antivirus progra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nas štiti od štetnih programa (virusa, trojanaca, spyware, worms i s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nam pomaže da se ne “upecamo” – phis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ajlove za koje sumnjamo da su štetni proveriti na online scanner-u </a:t>
            </a:r>
            <a:r>
              <a:rPr b="0" lang="sr-Latn-C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virusscan.jotti.org/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VIRU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efinicije moraju uvek biti ažurirane – podesiti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vakodnevno </a:t>
            </a: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utomatsko ažuriranj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deljno skeniranje sistemskog diska je poželj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Eksterne memorije – uvek skenirati pre nego što krenemo da ih koristim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nternet Brow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Browser nam je glavni alat za komunikaciju sa sadržajima na Internet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Izabrati jedan i upoznati njegove naprednije tehnike zašt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Uvek koristiti najnoviju verziju browser-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S Internet Explorer spada u najnepouzdanij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fox – dosta sigurnosnih dodataka se može instalira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Chrome – najbrže radi od svi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nternet Browser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Izbegavati opcije “Remember me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 snimati lozinke za pristup sajtovi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HTTPS vs HTT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a li blokirati skript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žuriranje softv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žuriranje operativnog sist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žuriranje ostalog softve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Instalirati samo one stvari koje nam trebaju – deinstalirati one koje nam ne trebaju – Revo UNINSTALL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01:11Z</dcterms:created>
  <dc:creator>Milos Markovic</dc:creator>
  <dc:description/>
  <dc:language>en-US</dc:language>
  <cp:lastModifiedBy>Pedjica</cp:lastModifiedBy>
  <dcterms:modified xsi:type="dcterms:W3CDTF">2011-04-19T11:07:52Z</dcterms:modified>
  <cp:revision>32</cp:revision>
  <dc:subject/>
  <dc:title>Sigurnost na Internetu</dc:title>
</cp:coreProperties>
</file>