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4D3-B074-492F-BB4C-BE7455F0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465-FFE9-499A-86B8-2D28296D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B5F-F129-4D8E-BF82-896E6AEF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C22-D8E1-4D1A-9563-A826DB21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0E8-889F-4C4B-9BEA-728FCC3B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556-FB6D-4C08-8F10-03377025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201-386F-45D7-949C-9BAA8963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BF6-1135-4F48-BE02-F6EABB35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E41-4EC9-44C5-ACFB-2B095562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094-0E37-41D7-8487-4B01F152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1B6-AFDC-4D58-BB8A-7744073D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E5E-4E9A-4867-9F1D-F28E69D8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061BE-FDBC-49B5-8AD2-E938FA0F24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BB970-876E-49AC-ABE6-0C86E667859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3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6:05:05Z</dcterms:created>
  <dc:creator>최봉수</dc:creator>
  <dc:description/>
  <dc:language>en-US</dc:language>
  <cp:lastModifiedBy>맛있다 군만두</cp:lastModifiedBy>
  <dcterms:modified xsi:type="dcterms:W3CDTF">2024-09-24T07:58:44Z</dcterms:modified>
  <cp:revision>4</cp:revision>
  <dc:subject/>
  <dc:title>슬라이드 1</dc:title>
</cp:coreProperties>
</file>