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793-E43E-4F0F-9CCC-AE7E5A1C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AA3-1446-43AB-B71E-4326C6E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DAE-0979-4892-80E6-54441D19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C85-498C-4D79-BD37-F9FDDC3A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F17-BCD8-4030-9DC3-B6F4225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E4B-113E-412C-9387-6EBBC90F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213-41EF-46E2-BBE1-FB44C14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4FA-C2ED-4512-8ECF-7320F11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CBF-2D28-497C-B53B-3FC3EFB5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902-7C1C-40A9-8FFE-E6C3355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45D-463D-4DF4-A662-2EA0E9C4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2A7-C4F8-4211-ACFE-83321A5B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15D85-65A6-41B0-81C3-EA61E1D4B6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C2FBC-0D88-40FE-817A-86FF64709FE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6:05:05Z</dcterms:created>
  <dc:creator>최봉수</dc:creator>
  <dc:description/>
  <dc:language>en-US</dc:language>
  <cp:lastModifiedBy>맛있다 군만두</cp:lastModifiedBy>
  <dcterms:modified xsi:type="dcterms:W3CDTF">2024-09-24T07:58:44Z</dcterms:modified>
  <cp:revision>4</cp:revision>
  <dc:subject/>
  <dc:title>슬라이드 1</dc:title>
</cp:coreProperties>
</file>