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615-DAA3-45BC-B4DD-AA30FED9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2F3-DBCE-4EA5-903C-0D562FC7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274-0FE2-4D59-9BA0-E38491C3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583-90A7-4324-9CD6-141CE0C8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71E-37F0-45DF-B498-AC8E7A03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A15-101A-4469-9F7B-7DB4929A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92F-87F0-4B11-B10B-5BFA0213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705-8DEF-46BA-83F5-00E93C47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517-40DC-409F-9889-0AE4A2AD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8FF-31C6-4A08-9127-BC5893CE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648-3194-47D1-8B20-2C92D330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5CD-DB1B-46AE-8D37-77803BE4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59B2-CD28-4336-A1BE-E1F22CAA29E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5:58:49Z</dcterms:modified>
  <cp:revision>25</cp:revision>
  <dc:subject/>
  <dc:title>슬라이드 1</dc:title>
</cp:coreProperties>
</file>