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EC5-3A5E-459D-B896-D6645D2C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6E1-FE35-4A47-94AC-F3A149C3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CF6-0B2C-427E-B208-06DCFA2C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7A8-2035-47F6-8D0F-3E295A6E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515-5C02-4EF8-BB27-5FEE1145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3AE-2202-4DD8-B5AF-1BFF89A7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F2D-0238-4A78-BC5F-7DD42D7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684-FED0-48CC-B82D-A1ECA53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148-282B-4723-A529-9D9CF33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B51-265B-4387-9C3A-AA2E2FFD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510-DDA1-46D2-96FF-4DC747C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010-5CE4-4A46-B01E-0B3DC5E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CC07-0C88-4C12-85BC-8DF9264C449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5:58:49Z</dcterms:modified>
  <cp:revision>25</cp:revision>
  <dc:subject/>
  <dc:title>슬라이드 1</dc:title>
</cp:coreProperties>
</file>