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4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6.jpeg" ContentType="image/jpeg"/>
  <Override PartName="/ppt/media/image27.png" ContentType="image/png"/>
  <Override PartName="/ppt/media/image33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6820-2830-42FA-ABBA-84D5ABCA0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F042-7B14-4F0E-AA8C-04C39821F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3CEF-4564-42E9-A2C9-0E487DA0E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D50D-AA32-494D-9052-087DFD227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E920D-6A73-4A02-9BCD-5571FD1AC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3AC66-F34A-4155-8E1F-0B5C0AD83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6010C-4EC0-44B7-BCEF-2D1576705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11805-9CB1-4B23-8408-A3309E839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61D24-6897-481F-BD9A-15B8ABA64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05291-D686-43B4-8393-EEE3815CA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4C0AD-237D-42FC-9647-15D37D658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80D9-4712-4FFD-8C5E-98BBA508F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46A74-80DA-41F0-80EE-FDF51CEB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669D0-2273-4C7F-8B4F-1FF5F507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A6ED9-5624-4C27-A5BE-147EAC933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5143F-1B31-4DDE-BB9B-A36FF287F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83013-30B4-48D9-A67E-2AC903217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582C-69C5-4269-915F-04DC90877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0198-4BFA-411C-944F-B5615CFB3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005E-4BB3-4788-9A45-8DA38AC95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4BFC-5BC1-463A-99F7-E3B9844B8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439B-3B7D-4F4F-8488-6C968234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C7CB-D89A-4474-AB85-51EE4518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6506-0866-4A85-B78F-8ED6119F1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95B70-C0FF-4D45-B89E-613CA2EFEDD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7298F-EBA0-4169-BA22-419A1FA7686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685800" y="2606760"/>
            <a:ext cx="70866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Verdana"/>
              </a:rPr>
              <a:t>HELMINTHOLOG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330066"/>
                </a:solidFill>
                <a:latin typeface="Verdana"/>
              </a:rPr>
              <a:t>PLATYHELMINTH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Verdana"/>
              </a:rPr>
              <a:t>Cestod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Life cycle of T. soliu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1" name="Picture 11" descr="Ocr0004"/>
          <p:cNvPicPr/>
          <p:nvPr/>
        </p:nvPicPr>
        <p:blipFill>
          <a:blip r:embed="rId1"/>
          <a:stretch/>
        </p:blipFill>
        <p:spPr>
          <a:xfrm>
            <a:off x="2728800" y="1917720"/>
            <a:ext cx="4507200" cy="4464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8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Life cycle: </a:t>
            </a:r>
            <a:r>
              <a:rPr b="1" i="1" lang="en-US" sz="2400" spc="-1" strike="noStrike">
                <a:solidFill>
                  <a:srgbClr val="333399"/>
                </a:solidFill>
                <a:latin typeface="Tahoma"/>
              </a:rPr>
              <a:t>Taenia saginata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1" i="1" lang="en-US" sz="2400" spc="-1" strike="noStrike">
                <a:solidFill>
                  <a:srgbClr val="333399"/>
                </a:solidFill>
                <a:latin typeface="Tahoma"/>
              </a:rPr>
              <a:t>Taenia solium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man is the usual definitive ho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ggs or Proglottides + faeces (1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oil. Beef (T. saginata) /pig (T.solium) ingest vegetation contamined by eggs /gravid Proglottides (2).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mall intestin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ncosphere (3) penetrate intestinal wall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scl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ysticerc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ysticercus live several years in cattle/pig muscle. People ingesting raw or undercooked infected meat (4).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mall intestine, cysticercu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ult worm. (2 months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ive up to several years (5) &amp; (6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ea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eniasis (Solium or Saginata)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uman ingest larva (cysticercus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dult in intest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ysticercosis (T. solium only): Human/Animal ingest eggs/Proglottide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larva/cysticercus in organs (Cysticercosis cellulosa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. Soliu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55640" y="213840"/>
            <a:ext cx="6840720" cy="1414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linical sign and symptoms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99920" y="1700280"/>
            <a:ext cx="8019720" cy="43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eniasis: mild abdominal discomfort, intestina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urbance, chronic diarrhe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symptom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oglottides pass in faeces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ctive: T. saginata, passive : T. solium)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ysticercosis: Larva state, tumor like in orga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tion: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aenia sol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can caus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ysticerco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ellulo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 huma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4000" y="764640"/>
            <a:ext cx="7559640" cy="88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Tahoma"/>
              </a:rPr>
              <a:t>Laboratory Diagnosis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iagnosis Taenia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Find the eggs or proglottides in faece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. saginat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egg similar with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oliu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egg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ee proglotti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Serologis : Coproantige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aution: Be careful when examine egg </a:t>
            </a:r>
            <a:r>
              <a:rPr b="1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ysticercosis (T.soliu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iagnosis Cysticercosi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opsy, radiology, serolog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898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898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898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898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898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898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898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898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898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4000" y="764640"/>
            <a:ext cx="7559640" cy="88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330066"/>
                </a:solidFill>
                <a:latin typeface="Tahoma"/>
              </a:rPr>
              <a:t>Treatment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aeniasi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: similar with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.latum,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added with Mebendazole 300 mg, 2X a day for 3 day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ysticercosi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surgery to remove the cyst (if possibl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aziquantel 25 mg/kgBW/day for 3-4 days (Be careful about side effec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n cerebral cyticercosi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2771640" y="404640"/>
            <a:ext cx="3886200" cy="83844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3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609480" y="1341360"/>
            <a:ext cx="8153640" cy="40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Verdana"/>
              </a:rPr>
              <a:t>Causal Agent: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Hydatidosis, or hydatid diseas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Echinococcus granulosus larva (cestodes of  carnivores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species : E. multilocular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ceps multiceps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Verdana"/>
              </a:rPr>
              <a:t>Geographic Distribution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mopolitan especially village area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Sheep, goat etc. can eat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E. granulosus egg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                                         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836640"/>
            <a:ext cx="779292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Tahoma"/>
              </a:rPr>
              <a:t>Morfologi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5640" y="1844640"/>
            <a:ext cx="8199360" cy="21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ult: Scolex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glottides: immature, mature,  gravi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gg: similar with Taenia eg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Picture 10" descr="F3030032"/>
          <p:cNvPicPr/>
          <p:nvPr/>
        </p:nvPicPr>
        <p:blipFill>
          <a:blip r:embed="rId1"/>
          <a:stretch/>
        </p:blipFill>
        <p:spPr>
          <a:xfrm>
            <a:off x="2124000" y="3429000"/>
            <a:ext cx="5327640" cy="30384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00000" y="502920"/>
            <a:ext cx="790272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Life cycle: Echinococcus granulosus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7315200" cy="533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Tahoma"/>
              </a:rPr>
              <a:t>Clinical feature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ydatid disease patient have no symptoms for many years, until the cyst grow and squeeze orga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ver enlargement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ypochondrium pain,  mass in liver, and bile duct obstruc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lung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hest pain, caught or hemoptisi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pture of cyst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ever, urticaria, can be anaphylactic shock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organs such as brain, bone, heart can be attack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0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182600" y="1773000"/>
            <a:ext cx="698976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estod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Pseudophyllid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: Diphyllobothr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Cyclophyllid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: Taen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ymenolepis et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emato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latyhelminth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Hydatid sand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755640" y="2565360"/>
            <a:ext cx="3809880" cy="197172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5"/>
          <p:cNvSpPr/>
          <p:nvPr/>
        </p:nvSpPr>
        <p:spPr>
          <a:xfrm>
            <a:off x="755640" y="465300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ydatid cyst fluid aspiration will find many protoscolices (size 100µm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scolices generally laid invaginated position but it will evaginated if it’s taken in saline solution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Picture 8" descr=""/>
          <p:cNvPicPr/>
          <p:nvPr/>
        </p:nvPicPr>
        <p:blipFill>
          <a:blip r:embed="rId2"/>
          <a:stretch/>
        </p:blipFill>
        <p:spPr>
          <a:xfrm>
            <a:off x="4932360" y="836640"/>
            <a:ext cx="3672000" cy="3313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8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07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Tahoma"/>
              </a:rPr>
              <a:t>Laboratory Diagnosis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1428840"/>
            <a:ext cx="7772400" cy="470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di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ltrasonograph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y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ologic exam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Tahoma"/>
              </a:rPr>
              <a:t>Treatmen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66"/>
                </a:solidFill>
                <a:latin typeface="Tahoma"/>
              </a:rPr>
              <a:t>Operation to remove the cyst </a:t>
            </a:r>
            <a:r>
              <a:rPr b="0" lang="en-US" sz="3200" spc="-1" strike="noStrike">
                <a:solidFill>
                  <a:srgbClr val="330066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330066"/>
                </a:solidFill>
                <a:latin typeface="Tahoma"/>
              </a:rPr>
              <a:t> be careful, do not ruptu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66"/>
                </a:solidFill>
                <a:latin typeface="Tahoma"/>
              </a:rPr>
              <a:t>Drugs: Albendazole, Mebendazo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0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1981080" y="457200"/>
            <a:ext cx="4724640" cy="6858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3"/>
          <p:cNvSpPr/>
          <p:nvPr/>
        </p:nvSpPr>
        <p:spPr>
          <a:xfrm>
            <a:off x="380880" y="1447920"/>
            <a:ext cx="8382240" cy="43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66"/>
                </a:solidFill>
                <a:latin typeface="Verdana"/>
              </a:rPr>
              <a:t>Causal Agent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Hymenolepis nan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the dwarf tapeworm). Adult 15-40 mm.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Hymenolepis diminut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rat tapeworm), 20-60cm, DH: rodent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re in ma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66"/>
                </a:solidFill>
                <a:latin typeface="Verdana"/>
              </a:rPr>
              <a:t>Geographic Distribution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smopolit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66"/>
                </a:solidFill>
                <a:latin typeface="Verdana"/>
              </a:rPr>
              <a:t>Morfologi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ult: Scolex, Proglottides immature, mature, gravi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gg: H. nana: ± 37x47 micr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. diminuta: ± 58x86 micr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152388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00000" y="409680"/>
            <a:ext cx="7693200" cy="42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Life cycle : Hymenolepis nana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1600200" y="990720"/>
            <a:ext cx="7086600" cy="51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1295280" y="1273320"/>
            <a:ext cx="6705720" cy="492732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3"/>
          <p:cNvSpPr/>
          <p:nvPr/>
        </p:nvSpPr>
        <p:spPr>
          <a:xfrm>
            <a:off x="0" y="449568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AutoShape 4"/>
          <p:cNvSpPr/>
          <p:nvPr/>
        </p:nvSpPr>
        <p:spPr>
          <a:xfrm>
            <a:off x="2197080" y="2728800"/>
            <a:ext cx="1602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AutoShape 5"/>
          <p:cNvSpPr/>
          <p:nvPr/>
        </p:nvSpPr>
        <p:spPr>
          <a:xfrm>
            <a:off x="8450280" y="2728800"/>
            <a:ext cx="1602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AutoShape 6"/>
          <p:cNvSpPr/>
          <p:nvPr/>
        </p:nvSpPr>
        <p:spPr>
          <a:xfrm>
            <a:off x="-3774960" y="2881440"/>
            <a:ext cx="1602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AutoShape 7"/>
          <p:cNvSpPr/>
          <p:nvPr/>
        </p:nvSpPr>
        <p:spPr>
          <a:xfrm>
            <a:off x="54000" y="3033720"/>
            <a:ext cx="1602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AutoShape 8"/>
          <p:cNvSpPr/>
          <p:nvPr/>
        </p:nvSpPr>
        <p:spPr>
          <a:xfrm>
            <a:off x="6311880" y="3186000"/>
            <a:ext cx="1602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AutoShape 9"/>
          <p:cNvSpPr/>
          <p:nvPr/>
        </p:nvSpPr>
        <p:spPr>
          <a:xfrm>
            <a:off x="5086440" y="3338640"/>
            <a:ext cx="1602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AutoShape 10"/>
          <p:cNvSpPr/>
          <p:nvPr/>
        </p:nvSpPr>
        <p:spPr>
          <a:xfrm>
            <a:off x="9537840" y="3338640"/>
            <a:ext cx="1602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AutoShape 11"/>
          <p:cNvSpPr/>
          <p:nvPr/>
        </p:nvSpPr>
        <p:spPr>
          <a:xfrm>
            <a:off x="782640" y="3490920"/>
            <a:ext cx="1602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533520" y="22860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Hymenolepis diminu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6560" y="981000"/>
            <a:ext cx="8153640" cy="69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Tahoma"/>
              </a:rPr>
              <a:t>Clinical Features: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77240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symptomati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re infectio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H.nan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can cause weakness, cephalgia, nausea, abdominal pain and diarrh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Tahoma"/>
              </a:rPr>
              <a:t>Laboratory Diagnosi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ding eggs in faeces examin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ion method or re-exam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gger possibility to find eg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Tahoma"/>
              </a:rPr>
              <a:t>Treatment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ziquantel 25 mg/kgBW single d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0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4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9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4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9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4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3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"/>
          <p:cNvPicPr/>
          <p:nvPr/>
        </p:nvPicPr>
        <p:blipFill>
          <a:blip r:embed="rId2"/>
          <a:stretch/>
        </p:blipFill>
        <p:spPr>
          <a:xfrm>
            <a:off x="2438280" y="457200"/>
            <a:ext cx="2122560" cy="21337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"/>
          <p:cNvPicPr/>
          <p:nvPr/>
        </p:nvPicPr>
        <p:blipFill>
          <a:blip r:embed="rId3"/>
          <a:stretch/>
        </p:blipFill>
        <p:spPr>
          <a:xfrm>
            <a:off x="4648320" y="45720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4"/>
          <a:stretch/>
        </p:blipFill>
        <p:spPr>
          <a:xfrm>
            <a:off x="6858000" y="4572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7"/>
          <p:cNvSpPr/>
          <p:nvPr/>
        </p:nvSpPr>
        <p:spPr>
          <a:xfrm>
            <a:off x="838080" y="3352680"/>
            <a:ext cx="44960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: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Hymenolepis diminuta egg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 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val, 70 - 86 µm X 60 - 80 µm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olar thickenings +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: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Hymenolepis nana egg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 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ze 30 µm X 50 µm, bipolar thickening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nd polar filame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Rectangle 9"/>
          <p:cNvSpPr/>
          <p:nvPr/>
        </p:nvSpPr>
        <p:spPr>
          <a:xfrm>
            <a:off x="5562720" y="3352680"/>
            <a:ext cx="340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: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Hymenolepis nana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gg.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: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Hymenolepis diminuta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egg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Rectangle 10"/>
          <p:cNvSpPr/>
          <p:nvPr/>
        </p:nvSpPr>
        <p:spPr>
          <a:xfrm>
            <a:off x="770760" y="2743200"/>
            <a:ext cx="28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Rectangle 11"/>
          <p:cNvSpPr/>
          <p:nvPr/>
        </p:nvSpPr>
        <p:spPr>
          <a:xfrm>
            <a:off x="2989080" y="274320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Rectangle 13"/>
          <p:cNvSpPr/>
          <p:nvPr/>
        </p:nvSpPr>
        <p:spPr>
          <a:xfrm>
            <a:off x="5189040" y="2717640"/>
            <a:ext cx="27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Rectangle 14"/>
          <p:cNvSpPr/>
          <p:nvPr/>
        </p:nvSpPr>
        <p:spPr>
          <a:xfrm>
            <a:off x="4479840" y="365760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Rectangle 15"/>
          <p:cNvSpPr/>
          <p:nvPr/>
        </p:nvSpPr>
        <p:spPr>
          <a:xfrm>
            <a:off x="7481160" y="2652840"/>
            <a:ext cx="36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6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6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685800" y="2606760"/>
            <a:ext cx="74152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Verdana"/>
              </a:rPr>
              <a:t>PLATYHELMINTH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Verdana"/>
              </a:rPr>
              <a:t>TREMATOD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2627280" y="0"/>
            <a:ext cx="3457440" cy="81900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3"/>
          <p:cNvSpPr/>
          <p:nvPr/>
        </p:nvSpPr>
        <p:spPr>
          <a:xfrm>
            <a:off x="468360" y="762120"/>
            <a:ext cx="77756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0066"/>
                </a:solidFill>
                <a:latin typeface="Verdana"/>
              </a:rPr>
              <a:t>Causal Agents:</a:t>
            </a:r>
            <a:br>
              <a:rPr sz="1100"/>
            </a:b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Schistosoma haematobium, S. japonicum,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d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S. mansoni. 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are :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S. mekongi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and S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. intercalatum. 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                                                                         </a:t>
            </a:r>
            <a:r>
              <a:rPr b="1" lang="en-US" sz="1600" spc="-1" strike="noStrike">
                <a:solidFill>
                  <a:srgbClr val="330066"/>
                </a:solidFill>
                <a:latin typeface="Verdana"/>
              </a:rPr>
              <a:t>Life Cycle</a:t>
            </a:r>
            <a:r>
              <a:rPr b="1" lang="en-US" sz="1200" spc="-1" strike="noStrike">
                <a:solidFill>
                  <a:srgbClr val="330066"/>
                </a:solidFill>
                <a:latin typeface="Verdana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2"/>
          <a:stretch/>
        </p:blipFill>
        <p:spPr>
          <a:xfrm>
            <a:off x="1619280" y="1447920"/>
            <a:ext cx="698508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Habitat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85600"/>
            <a:ext cx="8229600" cy="45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chistosoma japonic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t Plexus mesentericus superior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5360" indent="-49536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chistosoma mansoni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plexus venosus inferior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5360" indent="-49536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chistosoma hematob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t plexus venosus vesicali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53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5360" indent="-495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male worm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ay eggs in intestin</a:t>
            </a:r>
            <a:r>
              <a:rPr b="0" lang="id-ID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.japonic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53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.manson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or vesica urinaria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.haematob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53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eces/urin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CESTOD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16000" y="1285920"/>
            <a:ext cx="7772400" cy="46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o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stell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glottid/Strobi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5638680" y="1630440"/>
            <a:ext cx="1922760" cy="19414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2"/>
          <a:stretch/>
        </p:blipFill>
        <p:spPr>
          <a:xfrm>
            <a:off x="3500280" y="3843360"/>
            <a:ext cx="5214960" cy="20890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"/>
          <p:cNvPicPr/>
          <p:nvPr/>
        </p:nvPicPr>
        <p:blipFill>
          <a:blip r:embed="rId3"/>
          <a:stretch/>
        </p:blipFill>
        <p:spPr>
          <a:xfrm>
            <a:off x="928800" y="3429000"/>
            <a:ext cx="1857240" cy="278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emale: long and slender 12-26 mm in leng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ameter 0,3 m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le: 6-22 mm in length, the body is flattened behind the ventral suck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racteristically: incurved ventrally to form a gynecophoral canal in which the female repo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0" y="74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468360" y="907920"/>
            <a:ext cx="8424720" cy="42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ercaria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→ ski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→ local reaction (dermatit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xic metabolites liberated during the growth of schistosomulae → fever, urticaria, eosinoph</a:t>
            </a:r>
            <a:r>
              <a:rPr b="0" lang="id-ID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a, leucocyto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the time of laying eggs → haematuria (S. haematobium), diarrhea/dysentri (S.mansoni + S. japonicu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                           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0066"/>
                </a:solidFill>
                <a:latin typeface="Verdana"/>
              </a:rPr>
              <a:t>Clinical Sign and Symptoms: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Verdana"/>
              </a:rPr>
              <a:t>Laboratory Diagnosis</a:t>
            </a:r>
            <a:r>
              <a:rPr b="1" lang="en-US" sz="4000" spc="-1" strike="noStrike">
                <a:solidFill>
                  <a:srgbClr val="330066"/>
                </a:solidFill>
                <a:latin typeface="Verdana"/>
              </a:rPr>
              <a:t>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3628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gg in faeces: S. mansoni a</a:t>
            </a:r>
            <a:r>
              <a:rPr b="0" lang="id-ID" sz="2400" spc="-1" strike="noStrike">
                <a:solidFill>
                  <a:srgbClr val="000000"/>
                </a:solidFill>
                <a:latin typeface="Verdana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. japonicum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gg in urine: S. haematobium (sedimen examination after sentrifugatio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Verdana"/>
              </a:rPr>
              <a:t>Treatment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aziquantel (drug of choi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539640" y="404640"/>
            <a:ext cx="838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Schistosoma mansoni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1042920" y="3213000"/>
            <a:ext cx="381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Egg of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Schistosoma mansoni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2" name="Picture 5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"/>
          <p:cNvPicPr/>
          <p:nvPr/>
        </p:nvPicPr>
        <p:blipFill>
          <a:blip r:embed="rId2"/>
          <a:stretch/>
        </p:blipFill>
        <p:spPr>
          <a:xfrm>
            <a:off x="2916360" y="105264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"/>
          <p:cNvPicPr/>
          <p:nvPr/>
        </p:nvPicPr>
        <p:blipFill>
          <a:blip r:embed="rId3"/>
          <a:stretch/>
        </p:blipFill>
        <p:spPr>
          <a:xfrm>
            <a:off x="6227640" y="1052640"/>
            <a:ext cx="1905120" cy="190476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9"/>
          <p:cNvSpPr/>
          <p:nvPr/>
        </p:nvSpPr>
        <p:spPr>
          <a:xfrm>
            <a:off x="5724360" y="3213000"/>
            <a:ext cx="316872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.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gg of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 Schistosoma japonicu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Picture 10" descr=""/>
          <p:cNvPicPr/>
          <p:nvPr/>
        </p:nvPicPr>
        <p:blipFill>
          <a:blip r:embed="rId4"/>
          <a:stretch/>
        </p:blipFill>
        <p:spPr>
          <a:xfrm>
            <a:off x="2987640" y="3860640"/>
            <a:ext cx="2438280" cy="126216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11"/>
          <p:cNvSpPr/>
          <p:nvPr/>
        </p:nvSpPr>
        <p:spPr>
          <a:xfrm>
            <a:off x="2762640" y="5373720"/>
            <a:ext cx="294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gg of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 Schistosoma haematobium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  <a:ea typeface="宋体"/>
              </a:rPr>
              <a:t>Pathogene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It belong to a kind of allergic reaction(rapid &amp; delay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Formation of granuloma produced by eggs (Hoeplli sign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Concomitant immun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Ectopic lesion (lung &amp; brai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  <a:ea typeface="BatangChe"/>
              </a:rPr>
              <a:t>Patholo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26920" y="981000"/>
            <a:ext cx="77724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Colon: acute -mucosa congestion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66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edema and egg granulom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66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chronic-fibro obstructive lesion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Liver: acute -enlargement of the l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66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and egg granuloma on 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66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chronic-portal liver cirrhosis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Other organs: lung and brain, etc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Systemic symptoms: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宋体"/>
              </a:rPr>
              <a:t>Acute Schistosomia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66680" y="24379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Mainly occurs  during July to Septemb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The history of contact with schistosome-infected wat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Schistosome dermatit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Incubation period: 23-73 days, average 1 month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宋体"/>
              </a:rPr>
              <a:t>Acute Schistosomia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Clinical manifestations come out after 4 to 8 weeks of infection, similar to the time from egg to adult worm (40 d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fe0404"/>
                </a:solidFill>
                <a:latin typeface="Tahoma"/>
                <a:ea typeface="宋体"/>
              </a:rPr>
              <a:t>Fever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 intermittent, maintain weeks to mon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0404"/>
                </a:solidFill>
                <a:latin typeface="Tahoma"/>
                <a:ea typeface="宋体"/>
              </a:rPr>
              <a:t>Allergic reaction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urticaria, angioneuroedema, enlargement of lymph nodes and eosinophil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0404"/>
                </a:solidFill>
                <a:latin typeface="Tahoma"/>
                <a:ea typeface="宋体"/>
              </a:rPr>
              <a:t>Digestive syndrom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 abdominal pain, diarrhea with pus and blood, constipation or diarrh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0404"/>
                </a:solidFill>
                <a:latin typeface="Tahoma"/>
                <a:ea typeface="宋体"/>
              </a:rPr>
              <a:t>Hepatosplenomega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宋体"/>
              </a:rPr>
              <a:t>Chronic Schistosomia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040" y="21016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Asymptomatic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 most person are asymptomat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Symptomatic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 the most common syndrome is abdominal pain with intermittent diarrhe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hepatosplenomega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宋体"/>
              </a:rPr>
              <a:t>Terminal stage of schistosomia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Liver cirrhosis is the prominent syndrome of this stag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According to the manifestations , it can be divided into three typ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The type of giant sple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The type of asci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The type of dwar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713880" y="428760"/>
            <a:ext cx="8240760" cy="57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chospher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Hexacanth embry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ysticercus/cysticerco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ydatid cy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1785960" y="957240"/>
            <a:ext cx="2100240" cy="2114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"/>
          <p:cNvPicPr/>
          <p:nvPr/>
        </p:nvPicPr>
        <p:blipFill>
          <a:blip r:embed="rId2"/>
          <a:stretch/>
        </p:blipFill>
        <p:spPr>
          <a:xfrm>
            <a:off x="4857840" y="1081080"/>
            <a:ext cx="1990800" cy="1990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F3030033"/>
          <p:cNvPicPr/>
          <p:nvPr/>
        </p:nvPicPr>
        <p:blipFill>
          <a:blip r:embed="rId3"/>
          <a:stretch/>
        </p:blipFill>
        <p:spPr>
          <a:xfrm>
            <a:off x="5929200" y="3143160"/>
            <a:ext cx="2786040" cy="2071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"/>
          <p:cNvPicPr/>
          <p:nvPr/>
        </p:nvPicPr>
        <p:blipFill>
          <a:blip r:embed="rId4"/>
          <a:stretch/>
        </p:blipFill>
        <p:spPr>
          <a:xfrm>
            <a:off x="3500280" y="4286160"/>
            <a:ext cx="23749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8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宋体"/>
              </a:rPr>
              <a:t>Ectopic Lesion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Schistosomiasis in lung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found in acute schistosomiasis, by egg deposition. Symptoms are light and signs are not cle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Schistosomiasis in brai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Acute type: encephalomeningiti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Chronic type: focal epileps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宋体"/>
              </a:rPr>
              <a:t>Stool Test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The discovery of eggs in stool is the evidence of diagnosis by direct smear or othe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宋体"/>
              </a:rPr>
              <a:t>Imaging tes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Ultrasound: the degree of liver cirrhosi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CT: the image of liver and b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X-ray: chest; esophagus; and gastrointestinal 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0" y="74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395280" y="1844640"/>
            <a:ext cx="8424720" cy="50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are 3 stages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cubation period 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ermatitis, traumatic and infiltrative changes in lungs, acute hepatitis, usually marked increase in circulating eosinph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gg deposition and extru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used by deposition of eggs into tissues of the small intestine and their discharge into the lumen of bow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issue proliferation and re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patomegali, ascites, anemia, e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                           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5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Verdana"/>
              </a:rPr>
              <a:t>Clinical Sign and Symptoms: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0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0066"/>
                </a:solidFill>
                <a:latin typeface="Verdana"/>
              </a:rPr>
              <a:t>Diagnosis</a:t>
            </a:r>
            <a:r>
              <a:rPr b="1" lang="en-US" sz="4200" spc="-1" strike="noStrike">
                <a:solidFill>
                  <a:srgbClr val="330066"/>
                </a:solidFill>
                <a:latin typeface="Verdana"/>
              </a:rPr>
              <a:t>: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3628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ifferential diagnosis :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- febris caused by acute bacterial and viral infectio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- Eosinophilia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richinosis/other helminthic inf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loody diarrhea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dysentri, hookworm, intestinal tuberculosis, carcinom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aboratory diagnosi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gg in faeces: S. mansoni a</a:t>
            </a:r>
            <a:r>
              <a:rPr b="0" lang="id-ID" sz="2600" spc="-1" strike="noStrike">
                <a:solidFill>
                  <a:srgbClr val="000000"/>
                </a:solidFill>
                <a:latin typeface="Verdana"/>
              </a:rPr>
              <a:t>nd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S. japonicum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gg in urine: S. haematobium (sedimen examination after sentrifugation)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eat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aziquantel orally 20mg/kgBB at 4-hour interv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Prognosi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od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when tratment given before or during the early part of the second period and are nor re-expo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2916360" y="476280"/>
            <a:ext cx="3384360" cy="72072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3"/>
          <p:cNvSpPr/>
          <p:nvPr/>
        </p:nvSpPr>
        <p:spPr>
          <a:xfrm>
            <a:off x="1111320" y="1414440"/>
            <a:ext cx="75326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66"/>
                </a:solidFill>
                <a:latin typeface="Tahoma"/>
              </a:rPr>
              <a:t>Causal Agents: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aenia saginat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beef tapeworm) and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. sol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pork tapeworm).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66"/>
                </a:solidFill>
                <a:latin typeface="Tahoma"/>
              </a:rPr>
              <a:t>Geographic Distribution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mopolitan, Taenia solium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. very rare in  Muslim countr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ndonesia: Bali, Papua, samosi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66"/>
                </a:solidFill>
                <a:latin typeface="Verdana"/>
              </a:rPr>
              <a:t>Morpholog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ult: Scolex, Proglottides immature, mature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avi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gg: ± 30x35 micr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1295280" y="38088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"/>
          <p:cNvPicPr/>
          <p:nvPr/>
        </p:nvPicPr>
        <p:blipFill>
          <a:blip r:embed="rId2"/>
          <a:stretch/>
        </p:blipFill>
        <p:spPr>
          <a:xfrm>
            <a:off x="4724280" y="45720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4"/>
          <p:cNvSpPr/>
          <p:nvPr/>
        </p:nvSpPr>
        <p:spPr>
          <a:xfrm>
            <a:off x="3059280" y="3048120"/>
            <a:ext cx="204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aeniidae egg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Picture 5" descr=""/>
          <p:cNvPicPr/>
          <p:nvPr/>
        </p:nvPicPr>
        <p:blipFill>
          <a:blip r:embed="rId3"/>
          <a:stretch/>
        </p:blipFill>
        <p:spPr>
          <a:xfrm>
            <a:off x="1143000" y="3429000"/>
            <a:ext cx="3276720" cy="21844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"/>
          <p:cNvPicPr/>
          <p:nvPr/>
        </p:nvPicPr>
        <p:blipFill>
          <a:blip r:embed="rId4"/>
          <a:stretch/>
        </p:blipFill>
        <p:spPr>
          <a:xfrm>
            <a:off x="5105520" y="3352680"/>
            <a:ext cx="2209680" cy="221004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7"/>
          <p:cNvSpPr/>
          <p:nvPr/>
        </p:nvSpPr>
        <p:spPr>
          <a:xfrm>
            <a:off x="1295280" y="5788080"/>
            <a:ext cx="685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ravid Proglottid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T.saginata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          gravid proglottid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T.solium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"/>
          <p:cNvPicPr/>
          <p:nvPr/>
        </p:nvPicPr>
        <p:blipFill>
          <a:blip r:embed="rId2"/>
          <a:stretch/>
        </p:blipFill>
        <p:spPr>
          <a:xfrm>
            <a:off x="2971800" y="76212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"/>
          <p:cNvPicPr/>
          <p:nvPr/>
        </p:nvPicPr>
        <p:blipFill>
          <a:blip r:embed="rId3"/>
          <a:stretch/>
        </p:blipFill>
        <p:spPr>
          <a:xfrm>
            <a:off x="5791320" y="685800"/>
            <a:ext cx="2590560" cy="259092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5"/>
          <p:cNvSpPr/>
          <p:nvPr/>
        </p:nvSpPr>
        <p:spPr>
          <a:xfrm>
            <a:off x="228600" y="4191120"/>
            <a:ext cx="861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Taenia saginata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scolex (A) has 4 suckers without rostellum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Taenia solium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scolex (B &amp; C) has 4 suckers and rostelum armed with hook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329120" y="34290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4114080" y="351648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6925680" y="351648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755280" y="836640"/>
            <a:ext cx="8064360" cy="52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ult: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Taenia saginat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± 5 - 7 m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sometimes up to 25 m)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Taenia soliu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2 – 7 m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avid Proglottides (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T. saginat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sually escape singly) and eggs passed in faece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T. saginat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ontains of 1000 – 2000 Proglottides,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Taenia soliu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1000 Proglottid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1920" y="439200"/>
            <a:ext cx="7091280" cy="4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Life cycle: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1476360" y="981000"/>
            <a:ext cx="6912000" cy="5114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5T22:13:46Z</dcterms:created>
  <dc:creator>Dr. Aswin</dc:creator>
  <dc:description/>
  <dc:language>en-US</dc:language>
  <cp:lastModifiedBy>neysa</cp:lastModifiedBy>
  <dcterms:modified xsi:type="dcterms:W3CDTF">2011-03-22T12:12:43Z</dcterms:modified>
  <cp:revision>333</cp:revision>
  <dc:subject/>
  <dc:title>PowerPoint Presentation</dc:title>
</cp:coreProperties>
</file>