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A05-0A7C-466B-8EF5-76D704F5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ADC-ED42-4D6E-BAD9-9235EBB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681-9AEB-4D93-957A-772AD9EE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8EF-C02D-4B86-8399-4201315F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BE1-9D7A-4938-9C08-571EB6C7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EDA-6E81-4205-9C90-93234E85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DA2-174F-44A5-A279-EA632EB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303-FCB7-44E7-992A-5F187A7F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32F-A8CA-44EC-B162-B821007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4F1-88E2-40CE-AAD3-3CA99A8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5309-B40B-4030-A727-F99CE9C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B38-3D08-46D0-BA4E-58ACFD96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1C20-FB00-4A17-A36C-338E88C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9F48-C0CF-4C5E-AC45-478461A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E9EF-13EA-4571-B499-51DE097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75C-9002-4B69-9030-4AEABBD6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CB5-3BFE-49CF-A2C4-41BA1BDE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678-E92D-4694-8EF4-152836B1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935-C4D7-4538-BDC8-6A559777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B37-EEFA-4E75-9B9D-EF90D81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B3C-42E8-46DF-AF47-0D8E8AE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A20-E1F0-4E87-9F91-B931BE7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4C9-99D9-483D-BF23-3B94DC5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BBA-0F93-414B-BE20-BAAD1F8A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5BC-D083-46CC-8F17-5BC728678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E9B0-61B2-4C29-B229-BDF422E603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2606760"/>
            <a:ext cx="7086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HELMINTHOLOG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Verdana"/>
              </a:rPr>
              <a:t>Cesto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fe cycle of T. soli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11" descr="Ocr0004"/>
          <p:cNvPicPr/>
          <p:nvPr/>
        </p:nvPicPr>
        <p:blipFill>
          <a:blip r:embed="rId1"/>
          <a:stretch/>
        </p:blipFill>
        <p:spPr>
          <a:xfrm>
            <a:off x="2728800" y="1917720"/>
            <a:ext cx="450720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ife cycle: </a:t>
            </a: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Taenia saginata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Taenia soliu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is the usual definitive h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gs or Proglottides + faeces (1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il. Beef (T. saginata) /pig (T.solium) ingest vegetation contamined by eggs /gravid Proglottides (2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mall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cosphere (3) penetrate intestinal wa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c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ysticer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sticercus live several years in cattle/pig muscle. People ingesting raw or undercooked infected meat (4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mall intestine, cysticerc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ult worm. (2 months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ve up to several years (5) &amp; (6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eniasis (Solium or Saginata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ingest larva (cysticercu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dult in intest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sticercosis (T. solium only): Human/Animal ingest eggs/Proglottid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rva/cysticercus in organs (Cysticercosis cellulosa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. Soliu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213840"/>
            <a:ext cx="684072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nical sign and symptom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9920" y="1700280"/>
            <a:ext cx="80197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eniasis: mild abdominal discomfort, intesti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urbance, chronic diarrh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symp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lottides pass in faece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tive: T. saginata, passive : T. soliu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sticercosis: Larva state, tumor like in org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tion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an 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ysticerc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hum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55964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gnosis Taeni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nd the eggs or proglottides in faec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. sagina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gg similar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g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e proglott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ologis : Coproanti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ution: Be careful when examine egg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ysticercosis (T.soliu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gnosis Cysticerc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psy, radiology, ser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55964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Tahoma"/>
              </a:rPr>
              <a:t>Treatmen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enia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similar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.latum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added with Mebendazole 300 mg, 2X a day for 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ysticerc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urgery to remove the cyst (if possi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ziquantel 25 mg/kgBW/day for 3-4 days (Be careful about side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cerebral cyticercos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886200" cy="838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09480" y="1341360"/>
            <a:ext cx="81536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ausal Agent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atidosis, or hydatid dise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chinococcus granulosus larva (cestodes of  carnivor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species : E. multilocul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eps multiceps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Geographic Distribu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mopolitan especially village are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heep, goat etc. can e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. granulosus egg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83664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Morfolog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993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ult: Scolex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lottides: immature, mature,  grav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g: similar with Taenia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0" descr="F3030032"/>
          <p:cNvPicPr/>
          <p:nvPr/>
        </p:nvPicPr>
        <p:blipFill>
          <a:blip r:embed="rId1"/>
          <a:stretch/>
        </p:blipFill>
        <p:spPr>
          <a:xfrm>
            <a:off x="2124000" y="3429000"/>
            <a:ext cx="5327640" cy="303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502920"/>
            <a:ext cx="79027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ife cycle: Echinococcus granulosu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Clinical feature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datid disease patient have no symptoms for many years, until the cyst grow and squeeze orga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r enlarge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ypochondrium pain,  mass in liver, and bile duct obstruc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lu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st pain, caught or hemoptis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ture of cy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ever, urticaria, can be anaphylactic shoc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organs such as brain, bone, heart can be attack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1773000"/>
            <a:ext cx="69897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sto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seudophyll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: Diphylloboth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yclophyll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: Tae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menolepi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mat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tyhelmint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datid san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09880" cy="1971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755640" y="465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ydatid cyst fluid aspiration will find many protoscolices (size 100µm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scolices generally laid invaginated position but it will evaginated if it’s taken in saline solu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3672000" cy="33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42884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sonograph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y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ologic ex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Operation to remove the cyst </a:t>
            </a:r>
            <a:r>
              <a:rPr b="0" lang="en-US" sz="32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 be careful, do not rup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Tahoma"/>
              </a:rPr>
              <a:t>Drugs: Albendazole, Mebendaz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472464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80880" y="1447920"/>
            <a:ext cx="838224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Verdana"/>
              </a:rPr>
              <a:t>Causal Ag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ymenolepis nan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the dwarf tapeworm). Adult 15-40 mm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at tapeworm), 20-60cm, DH: rod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re in m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Verdana"/>
              </a:rPr>
              <a:t>Geographic Distrib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mopolit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Verdana"/>
              </a:rPr>
              <a:t>Morfolog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ult: Scolex, Proglottides immature, mature, grav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: H. nana: ± 37x47 mic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. diminuta: ± 58x86 mic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1523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9680"/>
            <a:ext cx="76932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Life cycle : Hymenolepis na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95280" y="1273320"/>
            <a:ext cx="6705720" cy="4927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4495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197080" y="27288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8450280" y="27288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-3774960" y="28814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4000" y="303372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311880" y="3186000"/>
            <a:ext cx="1602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086440" y="33386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9537840" y="333864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782640" y="3490920"/>
            <a:ext cx="16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33520" y="228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15364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Clinical Feature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symptoma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e infe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.na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n cause weakness, cephalgia, nausea, abdominal pain and diarr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Laboratory Diagnos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eggs in faeces examin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ion method or re-exa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gger possibility to find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Treatmen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ziquantel 25 mg/kgBW single d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2438280" y="457200"/>
            <a:ext cx="21225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57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838080" y="3352680"/>
            <a:ext cx="449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diminuta eg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al, 70 - 86 µm X 60 - 80 µ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lar thickenings +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nana eg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ze 30 µm X 50 µm, bipolar thicken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polar fila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5562720" y="3352680"/>
            <a:ext cx="34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na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g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menolepis diminu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g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770760" y="27432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989080" y="274320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5189040" y="271764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479840" y="3657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7481160" y="265284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2606760"/>
            <a:ext cx="741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PLATYHELMINT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TREMATOD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3457440" cy="819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468360" y="762120"/>
            <a:ext cx="777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Verdana"/>
              </a:rPr>
              <a:t>Causal Agents:</a:t>
            </a:r>
            <a:br>
              <a:rPr sz="11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chistosoma haematobium, S. japonicum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. mansoni. 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re 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. mekong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. intercalatum. 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330066"/>
                </a:solidFill>
                <a:latin typeface="Verdana"/>
              </a:rPr>
              <a:t>Life Cycle</a:t>
            </a:r>
            <a:r>
              <a:rPr b="1" lang="en-US" sz="12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619280" y="1447920"/>
            <a:ext cx="698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bitat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japonic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Plexus mesentericus superio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manson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lexus venosus inferio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histosoma hematob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plexus venosus vesicali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wor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y eggs in intestin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japonic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mans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r vesica urinari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haematob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eces/ur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ESTO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28592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st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lottid/Strobi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638680" y="1630440"/>
            <a:ext cx="1922760" cy="194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500280" y="3843360"/>
            <a:ext cx="5214960" cy="20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18572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male: long and slender 12-26 mm in 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meter 0,3 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e: 6-22 mm in length, the body is flattened behind the ventral su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ally: incurved ventrally to form a gynecophoral canal in which the female re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07920"/>
            <a:ext cx="842472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cari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 sk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→ local reaction (dermati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xic metabolites liberated during the growth of schistosomulae → fever, urticaria, eosinoph</a:t>
            </a: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a, leucocyt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time of laying eggs → haematuria (S. haematobium), diarrhea/dysentri (S.mansoni + S. japonic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66"/>
                </a:solidFill>
                <a:latin typeface="Verdana"/>
              </a:rPr>
              <a:t>Clinical Sign and Symptoms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Verdana"/>
              </a:rPr>
              <a:t>Laboratory Diagnosis</a:t>
            </a: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 in faeces: S. mansoni a</a:t>
            </a:r>
            <a:r>
              <a:rPr b="0" lang="id-ID" sz="2400" spc="-1" strike="noStrike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. japonicu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 in urine: S. haematobium (sedimen examination after sentrifug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reatmen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ziquantel (drug of choi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9640" y="40464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Schistosoma mansoni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042920" y="321300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gg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histosoma mansoni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2916360" y="1052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5724360" y="3213000"/>
            <a:ext cx="31687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g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Schistosoma japonic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2987640" y="3860640"/>
            <a:ext cx="2438280" cy="1262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62640" y="5373720"/>
            <a:ext cx="29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gg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Schistosoma haematobium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Pathogen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t belong to a kind of allergic reaction(rapid &amp; delay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Formation of granuloma produced by eggs (Hoeplli sig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oncomitant immu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ctopic lesion (lung &amp; br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  <a:ea typeface="BatangChe"/>
              </a:rPr>
              <a:t>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olon: acute -mucosa congestio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dema and egg granulo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-fibro obstructive lesion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Liver: acute -enlargement of the l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nd egg granuloma on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-portal liver cirrhosi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Other organs: lung and brain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ystemic symptoms: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cute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Mainly occurs  during July to Sept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history of contact with schistosome-infected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e dermat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ncubation period: 23-73 days, average 1 mon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cute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linical manifestations come out after 4 to 8 weeks of infection, similar to the time from egg to adult worm (40 d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Feve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intermittent, maintain weeks to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Allergic rea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rticaria, angioneuroedema, enlargement of lymph nodes and eosinophi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Digestive syndrom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abdominal pain, diarrhea with pus and blood, constipation or diarr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0404"/>
                </a:solidFill>
                <a:latin typeface="Tahoma"/>
                <a:ea typeface="宋体"/>
              </a:rPr>
              <a:t>Hepatosplenomega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hronic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101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symptomati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most person are asymptom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ymptomati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the most common syndrome is abdominal pain with intermittent diarrh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hepatosplenomega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Terminal stage of schistosomi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Liver cirrhosis is the prominent syndrome of this st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ccording to the manifestations , it can be divided into three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giant spl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asc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he type of dwar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13880" y="428760"/>
            <a:ext cx="824076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hosphe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xacanth embr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sticercus/cysticerco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atid cy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785960" y="957240"/>
            <a:ext cx="2100240" cy="211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857840" y="10810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3030033"/>
          <p:cNvPicPr/>
          <p:nvPr/>
        </p:nvPicPr>
        <p:blipFill>
          <a:blip r:embed="rId3"/>
          <a:stretch/>
        </p:blipFill>
        <p:spPr>
          <a:xfrm>
            <a:off x="5929200" y="314316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3500280" y="4286160"/>
            <a:ext cx="2374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ctopic Le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iasis in lung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found in acute schistosomiasis, by egg deposition. Symptoms are light and signs are not cl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histosomiasis in br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cute type: encephalomeningit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hronic type: focal epilep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tool Tes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 discovery of eggs in stool is the evidence of diagnosis by direct smear or othe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maging t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ltrasound: the degree of liver cirrh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T: the image of liver and b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-ray: chest; esophagus; and gastrointestinal 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95280" y="1844640"/>
            <a:ext cx="842472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stag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ubation period 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rmatitis, traumatic and infiltrative changes in lungs, acute hepatitis, usually marked increase in circulating eosinph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g deposition and extr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deposition of eggs into tissues of the small intestine and their discharge into the lumen of bow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ssue proliferation and re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patomegali, ascites, anemia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linical Sign and Symptom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Verdana"/>
              </a:rPr>
              <a:t>Diagnosis</a:t>
            </a:r>
            <a:r>
              <a:rPr b="1" lang="en-US" sz="4200" spc="-1" strike="noStrike">
                <a:solidFill>
                  <a:srgbClr val="330066"/>
                </a:solidFill>
                <a:latin typeface="Verdana"/>
              </a:rPr>
              <a:t>: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l diagnosis 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febris caused by acute bacterial and viral inf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Eosinophili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richinosis/other helminthic in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oody diarrhe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ysentri, hookworm, intestinal tuberculosis, carcino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atory diagnos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g in faeces: S. mansoni a</a:t>
            </a:r>
            <a:r>
              <a:rPr b="0" lang="id-ID" sz="2600" spc="-1" strike="noStrike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. japonicum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g in urine: S. haematobium (sedimen examination after sentrifugation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ziquantel orally 20mg/kgBB at 4-hour interv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gno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when tratment given before or during the early part of the second period and are nor re-expo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38436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111320" y="1414440"/>
            <a:ext cx="7532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Causal Agent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aenia sagin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ef tapeworm) a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. sol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ork tapeworm)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Geographic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, Taenia soli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. very rare in  Muslim count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onesia: Bali, Papua, samos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Verdana"/>
              </a:rPr>
              <a:t>Morpholog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ult: Scolex, Proglottides immature, matur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g: ± 30x35 micr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059280" y="304812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eniidae eg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295280" y="5788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avid Proglotti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.sagin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gravid proglotti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.soli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971800" y="762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791320" y="6858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28600" y="41911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aenia sagin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colex (A) has 4 suckers without rostellum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colex (B &amp; C) has 4 suckers and rostelum armed with hook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29120" y="342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14080" y="3516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925680" y="3516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64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ult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± 5 - 7 m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ometimes up to 25 m)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 – 7 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vid Proglottides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.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ually escape singly) and eggs passed in faec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. sagina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tains of 1000 – 2000 Proglottides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enia sol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00 Proglott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1920" y="439200"/>
            <a:ext cx="7091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ife cycl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912000" cy="51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2:13:46Z</dcterms:created>
  <dc:creator>Dr. Aswin</dc:creator>
  <dc:description/>
  <dc:language>en-US</dc:language>
  <cp:lastModifiedBy>neysa</cp:lastModifiedBy>
  <dcterms:modified xsi:type="dcterms:W3CDTF">2011-03-22T12:12:43Z</dcterms:modified>
  <cp:revision>333</cp:revision>
  <dc:subject/>
  <dc:title>PowerPoint Presentation</dc:title>
</cp:coreProperties>
</file>