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zij%20gelooft%20in%20mij.wav" ContentType="audio/x-wav"/>
  <Override PartName="/ppt/media/image20.jpeg" ContentType="image/jpeg"/>
  <Override PartName="/ppt/media/image18.jpeg" ContentType="image/jpeg"/>
  <Override PartName="/ppt/media/image17.jpeg" ContentType="image/jpeg"/>
  <Override PartName="/ppt/media/De%20Arabier%20-%20Tulpen%20Uit%20Amsterdam.wav" ContentType="audio/x-wav"/>
  <Override PartName="/ppt/media/image25.jpeg" ContentType="image/jpeg"/>
  <Override PartName="/ppt/media/image15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Marc%20Winter%20-%20De%20heilsoldaat%5B1%5D.wav" ContentType="audio/x-wav"/>
  <Override PartName="/ppt/media/image30.jpeg" ContentType="image/jpeg"/>
  <Override PartName="/ppt/media/image3.jpeg" ContentType="image/jpeg"/>
  <Override PartName="/ppt/media/image24.jpeg" ContentType="image/jpeg"/>
  <Override PartName="/ppt/media/image28.gif" ContentType="image/gif"/>
  <Override PartName="/ppt/media/image14.jpeg" ContentType="image/jpeg"/>
  <Override PartName="/ppt/media/rumbatambah.wav" ContentType="audio/x-wav"/>
  <Override PartName="/ppt/media/image9.jpeg" ContentType="image/jpeg"/>
  <Override PartName="/ppt/media/image11.png" ContentType="image/png"/>
  <Override PartName="/ppt/media/image32.gif" ContentType="image/gif"/>
  <Override PartName="/ppt/media/image19.jpeg" ContentType="image/jpeg"/>
  <Override PartName="/ppt/media/image12.jpeg" ContentType="image/jpeg"/>
  <Override PartName="/ppt/media/image31.gif" ContentType="image/gif"/>
  <Override PartName="/ppt/media/image7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media/Draaiorgel%20-%20De%20Arabier%20-%20Aan%20de%20Amsterdamse%20Grachten.wav" ContentType="audio/x-wav"/>
  <Override PartName="/ppt/media/image16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896B-27B8-477E-B902-5CCE0201FBA5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uwersgra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FE5-169B-4C2E-AAA3-7D97465C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CA9-4DFC-46AB-9D63-733A7C40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441-E6F5-4EA4-87FB-897498BB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93A-7212-4629-BF61-36B383C7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5A0-33A0-487A-AAE8-6605E553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C5A-B0CB-4247-B5DA-D8F5E004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12C-EA46-4620-9C25-C5BE9BAA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D64-C9FA-467B-974C-B80C00BC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0EF-301B-476A-9C27-6BA2A37F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F1F-19ED-46AA-9908-38F4FA19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9AB-E185-410C-B85A-8BE4869D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E0C-45FB-4B60-A64B-B6D0418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069D-97A0-47D0-A9D6-600F3402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aaiorgel%20-%20De%20Arabier%20-%20Aan%20de%20Amsterdamse%20Grachten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De%20Arabier%20-%20Tulpen%20Uit%20Amsterdam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zij%20gelooft%20in%20mij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audio" Target="../media/Marc%20Winter%20-%20De%20heilsoldaat%5B1%5D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rumbatambah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565280"/>
            <a:ext cx="7056720" cy="529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6360" y="11160"/>
            <a:ext cx="9144000" cy="1114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07240" y="1052640"/>
            <a:ext cx="2905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33"/>
                </a:solidFill>
                <a:latin typeface="Arial"/>
              </a:rPr>
              <a:t>Trip Amster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1701000" y="3366360"/>
            <a:ext cx="426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D e  A r a b i e 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063-323A-4019-8D16-ABF09D62C13A}" type="slidenum">
              <a:t>1</a:t>
            </a:fld>
          </a:p>
        </p:txBody>
      </p:sp>
    </p:spTree>
  </p:cSld>
  <p:transition advTm="14000">
    <p:fade thruBlk="true"/>
    <p:sndAc>
      <p:stSnd>
        <p:snd r:embed="rId3" name="Draaiorgel%20-%20De%20Arabier%20-%20Aan%20de%20Amsterdamse%20Gracht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913520" cy="527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22C-DCA0-4D78-8524-6803533B9E9D}" type="slidenum">
              <a:t>10</a:t>
            </a:fld>
          </a:p>
        </p:txBody>
      </p:sp>
    </p:spTree>
  </p:cSld>
  <p:transition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00"/>
                </a:solidFill>
                <a:latin typeface="Arial"/>
              </a:rPr>
              <a:t>Albert Cuypmark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32000" y="16002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54E-E501-4938-ACCD-2CFBBE3D34A0}" type="slidenum">
              <a:t>11</a:t>
            </a:fld>
          </a:p>
        </p:txBody>
      </p:sp>
    </p:spTree>
  </p:cSld>
  <p:transition advTm="10000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00"/>
                </a:solidFill>
                <a:latin typeface="Arial"/>
              </a:rPr>
              <a:t>De D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13440" cy="484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6CE-0244-4E37-B301-760D097EE11A}" type="slidenum">
              <a:t>12</a:t>
            </a:fld>
          </a:p>
        </p:txBody>
      </p:sp>
    </p:spTree>
  </p:cSld>
  <p:transition advTm="9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Café Nol  Westerstra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9080" y="1089000"/>
            <a:ext cx="6912000" cy="5235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68360" y="6288120"/>
            <a:ext cx="5091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9933"/>
                </a:solidFill>
                <a:latin typeface="Arial"/>
              </a:rPr>
              <a:t>Zeer bekend Café , wordt veel gezonge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A50-2621-41CD-83AA-F8C9B95291E9}" type="slidenum">
              <a:t>13</a:t>
            </a:fld>
          </a:p>
        </p:txBody>
      </p:sp>
    </p:spTree>
  </p:cSld>
  <p:transition advTm="11000">
    <p:fade/>
    <p:sndAc>
      <p:stSnd>
        <p:snd r:embed="rId2" name="De%20Arabier%20-%20Tulpen%20Uit%20Amsterdam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6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11680" cy="496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6360" y="6284880"/>
            <a:ext cx="831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Ook in Café de “ twee zwaantjes ” op de prinseng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D0D-F778-4954-B66F-456E470F8335}" type="slidenum">
              <a:t>14</a:t>
            </a:fld>
          </a:p>
        </p:txBody>
      </p:sp>
    </p:spTree>
  </p:cSld>
  <p:transition advTm="1900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58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Rondwandeling met g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669600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80E-D62B-48EC-8DF1-E880766594BF}" type="slidenum">
              <a:t>15</a:t>
            </a:fld>
          </a:p>
        </p:txBody>
      </p:sp>
    </p:spTree>
  </p:cSld>
  <p:transition advTm="1100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1280" y="838080"/>
            <a:ext cx="799308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68F-C01D-4749-9CAB-4DAAB10839E1}" type="slidenum">
              <a:t>16</a:t>
            </a:fld>
          </a:p>
        </p:txBody>
      </p:sp>
    </p:spTree>
  </p:cSld>
  <p:transition advTm="1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Raadhuisstraat met achterkant Pal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16000" y="1762200"/>
            <a:ext cx="6624720" cy="43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06D-C4FC-4268-9946-E0D29FAEE7D6}" type="slidenum">
              <a:t>17</a:t>
            </a:fld>
          </a:p>
        </p:txBody>
      </p:sp>
    </p:spTree>
  </p:cSld>
  <p:transition advTm="9000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581040"/>
            <a:ext cx="7274160" cy="565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12B-508A-47EC-9DDB-4E366A4DBFBD}" type="slidenum">
              <a:t>18</a:t>
            </a:fld>
          </a:p>
        </p:txBody>
      </p:sp>
    </p:spTree>
  </p:cSld>
  <p:transition advTm="1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00000" y="1028880"/>
            <a:ext cx="7417080" cy="494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533-195A-457A-AD5A-E00CE7AE8F04}" type="slidenum">
              <a:t>19</a:t>
            </a:fld>
          </a:p>
        </p:txBody>
      </p:sp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De Magere Brug over de Ams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524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F85-DA0D-4A69-8406-3B9D78272037}" type="slidenum">
              <a:t>2</a:t>
            </a:fld>
          </a:p>
        </p:txBody>
      </p:sp>
    </p:spTree>
  </p:cSld>
  <p:transition advTm="8000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1128600"/>
            <a:ext cx="7986600" cy="532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4720" y="260280"/>
            <a:ext cx="2262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9900"/>
                </a:solidFill>
                <a:latin typeface="Arial"/>
              </a:rPr>
              <a:t>De 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7CC-2640-4A7C-8987-EB0108A26202}" type="slidenum">
              <a:t>20</a:t>
            </a:fld>
          </a:p>
        </p:txBody>
      </p:sp>
    </p:spTree>
  </p:cSld>
  <p:transition advTm="8000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119640" cy="6021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2360" y="333360"/>
            <a:ext cx="7924320" cy="581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9900"/>
                </a:solidFill>
                <a:latin typeface="Arial"/>
              </a:rPr>
              <a:t>Multimedia Centre Theatre The Melk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98B-02C8-4B7F-B8BB-7A9F1F581BA9}" type="slidenum">
              <a:t>21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1773360"/>
            <a:ext cx="2448000" cy="25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An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Fran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H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A86-A957-45FE-A77F-224B45ED4702}" type="slidenum">
              <a:t>22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Hous boot Hi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91480" cy="51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423-0BEF-44A3-B5F3-504C256830A9}" type="slidenum">
              <a:t>23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43360" y="0"/>
            <a:ext cx="48686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3429000"/>
            <a:ext cx="33116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8000"/>
                </a:solidFill>
                <a:latin typeface="Arial"/>
              </a:rPr>
              <a:t>Ook d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i="1" lang="nl-NL" sz="3200" spc="-1" strike="noStrike">
                <a:solidFill>
                  <a:srgbClr val="008000"/>
                </a:solidFill>
                <a:latin typeface="Arial"/>
              </a:rPr>
              <a:t>Amster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549360"/>
            <a:ext cx="560916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30-06-1951              23-09-2004  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029-EE67-4190-B88C-90B0803B1927}" type="slidenum">
              <a:t>24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60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704360" cy="506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66520" y="189000"/>
            <a:ext cx="546156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8000"/>
                </a:solidFill>
                <a:latin typeface="Arial"/>
              </a:rPr>
              <a:t>Goeie vergelijking ze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4160" y="6078600"/>
            <a:ext cx="446940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8000"/>
                </a:solidFill>
                <a:latin typeface="Arial"/>
              </a:rPr>
              <a:t>Geef mij maar ne Duve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2DE-DB49-4011-82CC-4F53EB92D0E0}" type="slidenum">
              <a:t>25</a:t>
            </a:fld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99cc00"/>
                </a:solidFill>
                <a:latin typeface="Arial"/>
              </a:rPr>
              <a:t>Niet weg te denken in Mok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753080" cy="3841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95640" y="5516640"/>
            <a:ext cx="1409760" cy="10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AAF-5785-4259-86BD-0C7E6D92A457}" type="slidenum">
              <a:t>26</a:t>
            </a:fld>
          </a:p>
        </p:txBody>
      </p:sp>
    </p:spTree>
  </p:cSld>
  <p:transition advTm="6000">
    <p:fade/>
    <p:sndAc>
      <p:stSnd>
        <p:snd r:embed="rId3" name="Marc%20Winter%20-%20De%20heilsoldaat%5B1%5D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2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De strijdkr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392720" cy="414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492360" y="5373720"/>
            <a:ext cx="2159280" cy="1454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300720" y="6165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Joop.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651640" y="6092640"/>
            <a:ext cx="57600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D25-21D9-4750-8EF5-991585446AD4}" type="slidenum">
              <a:t>27</a:t>
            </a:fld>
          </a:p>
        </p:txBody>
      </p:sp>
    </p:spTree>
  </p:cSld>
  <p:transition advTm="88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20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Dit was een expressie van de 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0 en 80 er jaren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 in Amsterdam.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Het is voorbij gevlogen de tijd.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ar Amsterdam is Amsterdam niet meer .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En zo gaat het met alles ,maar de herinneringen, die zijn blijvend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D26-0E19-4CAB-AB6C-010868AD66DB}" type="slidenum">
              <a:t>28</a:t>
            </a:fld>
          </a:p>
        </p:txBody>
      </p:sp>
    </p:spTree>
  </p:cSld>
  <p:transition advTm="20000">
    <p:fade/>
    <p:sndAc>
      <p:stSnd>
        <p:snd r:embed="rId1" name="rumbatambah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E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889440" cy="254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5661000"/>
            <a:ext cx="4578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9900"/>
                </a:solidFill>
                <a:latin typeface="Arial"/>
              </a:rPr>
              <a:t>Bern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0680" y="4941720"/>
            <a:ext cx="3480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33"/>
                </a:solidFill>
                <a:latin typeface="Arial"/>
              </a:rPr>
              <a:t>Met de Groeten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AA2-0E88-4F9D-B00E-9FBFF37058DD}" type="slidenum">
              <a:t>29</a:t>
            </a:fld>
          </a:p>
        </p:txBody>
      </p:sp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75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25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25"/>
                            </p:stCondLst>
                            <p:childTnLst>
                              <p:par>
                                <p:cTn id="30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De Sluis voor de Magere B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4560" y="1374840"/>
            <a:ext cx="6913440" cy="51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F4E-91C5-4D05-88A6-D025F2C29B8C}" type="slidenum">
              <a:t>3</a:t>
            </a:fld>
          </a:p>
        </p:txBody>
      </p:sp>
    </p:spTree>
  </p:cSld>
  <p:transition spd="med" advTm="10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Brauwersgracht  Jord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55164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EAC-CBCE-49C7-83B2-142B674FA530}" type="slidenum">
              <a:t>4</a:t>
            </a:fld>
          </a:p>
        </p:txBody>
      </p:sp>
    </p:spTree>
  </p:cSld>
  <p:transition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Damra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F65-B43E-4373-90C4-AD2E2FFF0B79}" type="slidenum">
              <a:t>5</a:t>
            </a:fld>
          </a:p>
        </p:txBody>
      </p:sp>
    </p:spTree>
  </p:cSld>
  <p:transition advTm="9000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Schouwburg  Leidsepl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7480" y="1484280"/>
            <a:ext cx="6770520" cy="507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D50-1B8C-4E9E-8BB4-D49521F918CC}" type="slidenum">
              <a:t>6</a:t>
            </a:fld>
          </a:p>
        </p:txBody>
      </p:sp>
    </p:spTree>
  </p:cSld>
  <p:transition advTm="10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ff9900"/>
                </a:solidFill>
                <a:latin typeface="Arial"/>
              </a:rPr>
              <a:t>Waterloople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396-42EF-479B-B123-A9CD44092693}" type="slidenum">
              <a:t>7</a:t>
            </a:fld>
          </a:p>
        </p:txBody>
      </p:sp>
    </p:spTree>
  </p:cSld>
  <p:transition advTm="10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9120" y="-162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Nieuwmar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4560" y="907920"/>
            <a:ext cx="6913440" cy="5185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4480" y="6356520"/>
            <a:ext cx="8410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Hier was in de jaren 50  de Cotton Club gevestigd,  éérste Jazz Caf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973-3B18-48D2-A0AB-05A008543BEF}" type="slidenum">
              <a:t>8</a:t>
            </a:fld>
          </a:p>
        </p:txBody>
      </p:sp>
    </p:spTree>
  </p:cSld>
  <p:transition advTm="12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8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00"/>
                </a:solidFill>
                <a:latin typeface="Arial"/>
              </a:rPr>
              <a:t>Red light Distri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913440" cy="51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171-C950-4F3E-A33B-AFC9B06D2A60}" type="slidenum">
              <a:t>9</a:t>
            </a:fld>
          </a:p>
        </p:txBody>
      </p:sp>
    </p:spTree>
  </p:cSld>
  <p:transition advTm="10000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2:53:38Z</dcterms:created>
  <dc:creator>jos vervoort</dc:creator>
  <dc:description>http://users.telenet.be/powerpointjos</dc:description>
  <dc:language>en-US</dc:language>
  <cp:lastModifiedBy>Smets</cp:lastModifiedBy>
  <dcterms:modified xsi:type="dcterms:W3CDTF">2008-10-04T06:48:23Z</dcterms:modified>
  <cp:revision>5</cp:revision>
  <dc:subject/>
  <dc:title>Dia 1</dc:title>
</cp:coreProperties>
</file>