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zij%20gelooft%20in%20mij.wav" ContentType="audio/x-wav"/>
  <Override PartName="/ppt/media/image20.jpeg" ContentType="image/jpeg"/>
  <Override PartName="/ppt/media/image18.jpeg" ContentType="image/jpeg"/>
  <Override PartName="/ppt/media/image17.jpeg" ContentType="image/jpeg"/>
  <Override PartName="/ppt/media/De%20Arabier%20-%20Tulpen%20Uit%20Amsterdam.wav" ContentType="audio/x-wav"/>
  <Override PartName="/ppt/media/image25.jpeg" ContentType="image/jpeg"/>
  <Override PartName="/ppt/media/image15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Marc%20Winter%20-%20De%20heilsoldaat%5B1%5D.wav" ContentType="audio/x-wav"/>
  <Override PartName="/ppt/media/image30.jpeg" ContentType="image/jpeg"/>
  <Override PartName="/ppt/media/image3.jpeg" ContentType="image/jpeg"/>
  <Override PartName="/ppt/media/image24.jpeg" ContentType="image/jpeg"/>
  <Override PartName="/ppt/media/image28.gif" ContentType="image/gif"/>
  <Override PartName="/ppt/media/image14.jpeg" ContentType="image/jpeg"/>
  <Override PartName="/ppt/media/rumbatambah.wav" ContentType="audio/x-wav"/>
  <Override PartName="/ppt/media/image9.jpeg" ContentType="image/jpeg"/>
  <Override PartName="/ppt/media/image11.png" ContentType="image/png"/>
  <Override PartName="/ppt/media/image32.gif" ContentType="image/gif"/>
  <Override PartName="/ppt/media/image19.jpeg" ContentType="image/jpeg"/>
  <Override PartName="/ppt/media/image12.jpeg" ContentType="image/jpeg"/>
  <Override PartName="/ppt/media/image31.gif" ContentType="image/gif"/>
  <Override PartName="/ppt/media/image7.jpeg" ContentType="image/jpeg"/>
  <Override PartName="/ppt/media/image2.jpeg" ContentType="image/jpeg"/>
  <Override PartName="/ppt/media/image23.jpeg" ContentType="image/jpeg"/>
  <Override PartName="/ppt/media/image4.jpeg" ContentType="image/jpeg"/>
  <Override PartName="/ppt/media/Draaiorgel%20-%20De%20Arabier%20-%20Aan%20de%20Amsterdamse%20Grachten.wav" ContentType="audio/x-wav"/>
  <Override PartName="/ppt/media/image16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CC86-7BA9-4ED8-9BE2-8BDA6FEF07C7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uwersgra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527-8A86-4385-B70A-F82F2673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EC8-A549-46F9-B61F-96083E47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7F1-0942-45D9-946D-34B8A884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18A-47E8-426A-B8F2-D35CA2F5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B07-325F-4611-A09A-A8F6F5CE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226-640C-4FD5-9AE1-0D815AB7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24E-012C-429D-8FCA-C4F14215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9CE-7137-4071-9167-3DE1BFFD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33E-4377-43D3-BC48-F3DA15A3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428-0B14-492B-89C5-CF937371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48B-63E5-4A07-9107-5543B020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826-61F6-4C6A-B31F-BE7AE4F8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C301-6E83-43B5-A566-DE30CE79F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aaiorgel%20-%20De%20Arabier%20-%20Aan%20de%20Amsterdamse%20Grachten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De%20Arabier%20-%20Tulpen%20Uit%20Amsterdam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zij%20gelooft%20in%20mij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audio" Target="../media/Marc%20Winter%20-%20De%20heilsoldaat%5B1%5D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rumbatambah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565280"/>
            <a:ext cx="7056720" cy="529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6360" y="11160"/>
            <a:ext cx="9144000" cy="1114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07240" y="1052640"/>
            <a:ext cx="2905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33"/>
                </a:solidFill>
                <a:latin typeface="Arial"/>
              </a:rPr>
              <a:t>Trip Amster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1701000" y="3366360"/>
            <a:ext cx="426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D e  A r a b i e 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F6B-EA2C-426B-AEE5-645EB8AD84ED}" type="slidenum">
              <a:t>1</a:t>
            </a:fld>
          </a:p>
        </p:txBody>
      </p:sp>
    </p:spTree>
  </p:cSld>
  <p:transition advTm="14000">
    <p:fade thruBlk="true"/>
    <p:sndAc>
      <p:stSnd>
        <p:snd r:embed="rId3" name="Draaiorgel%20-%20De%20Arabier%20-%20Aan%20de%20Amsterdamse%20Gracht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913520" cy="527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DBD-B7A6-425D-A5F7-0A3E6BF2D4D7}" type="slidenum">
              <a:t>10</a:t>
            </a:fld>
          </a:p>
        </p:txBody>
      </p:sp>
    </p:spTree>
  </p:cSld>
  <p:transition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00"/>
                </a:solidFill>
                <a:latin typeface="Arial"/>
              </a:rPr>
              <a:t>Albert Cuypmark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32000" y="16002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D0A-6B09-4D4D-A8BF-C08BE5622947}" type="slidenum">
              <a:t>11</a:t>
            </a:fld>
          </a:p>
        </p:txBody>
      </p:sp>
    </p:spTree>
  </p:cSld>
  <p:transition advTm="10000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00"/>
                </a:solidFill>
                <a:latin typeface="Arial"/>
              </a:rPr>
              <a:t>De D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13440" cy="484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ED4-2131-47CC-87AA-3C3F3D6AEA81}" type="slidenum">
              <a:t>12</a:t>
            </a:fld>
          </a:p>
        </p:txBody>
      </p:sp>
    </p:spTree>
  </p:cSld>
  <p:transition advTm="9000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Café Nol  Westerstra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9080" y="1089000"/>
            <a:ext cx="6912000" cy="5235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68360" y="6288120"/>
            <a:ext cx="5091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9933"/>
                </a:solidFill>
                <a:latin typeface="Arial"/>
              </a:rPr>
              <a:t>Zeer bekend Café , wordt veel gezonge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607-F097-4D2A-9A9A-03DAA5736493}" type="slidenum">
              <a:t>13</a:t>
            </a:fld>
          </a:p>
        </p:txBody>
      </p:sp>
    </p:spTree>
  </p:cSld>
  <p:transition advTm="11000">
    <p:fade/>
    <p:sndAc>
      <p:stSnd>
        <p:snd r:embed="rId2" name="De%20Arabier%20-%20Tulpen%20Uit%20Amsterdam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6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711680" cy="496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6360" y="6284880"/>
            <a:ext cx="8316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Ook in Café de “ twee zwaantjes ” op de prinsengr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798-9C91-48F3-9770-98FC7E26B1E1}" type="slidenum">
              <a:t>14</a:t>
            </a:fld>
          </a:p>
        </p:txBody>
      </p:sp>
    </p:spTree>
  </p:cSld>
  <p:transition advTm="19000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580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Rondwandeling met gi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669600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48B-9BB7-4AEE-B340-CF743E210732}" type="slidenum">
              <a:t>15</a:t>
            </a:fld>
          </a:p>
        </p:txBody>
      </p:sp>
    </p:spTree>
  </p:cSld>
  <p:transition advTm="1100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1280" y="838080"/>
            <a:ext cx="7993080" cy="532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24B-E3F4-481F-8F53-FAFE25CEFE5E}" type="slidenum">
              <a:t>16</a:t>
            </a:fld>
          </a:p>
        </p:txBody>
      </p:sp>
    </p:spTree>
  </p:cSld>
  <p:transition advTm="1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Raadhuisstraat met achterkant Pal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16000" y="1762200"/>
            <a:ext cx="6624720" cy="43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8E4-6EBB-4DCD-85EC-56B9D0F18549}" type="slidenum">
              <a:t>17</a:t>
            </a:fld>
          </a:p>
        </p:txBody>
      </p:sp>
    </p:spTree>
  </p:cSld>
  <p:transition advTm="9000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581040"/>
            <a:ext cx="7274160" cy="565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CEC-D8AB-46E3-A14D-328634D2A091}" type="slidenum">
              <a:t>18</a:t>
            </a:fld>
          </a:p>
        </p:txBody>
      </p:sp>
    </p:spTree>
  </p:cSld>
  <p:transition advTm="10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00000" y="1028880"/>
            <a:ext cx="7417080" cy="494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9F9-183B-4023-84C9-BBBA65F4AF41}" type="slidenum">
              <a:t>19</a:t>
            </a:fld>
          </a:p>
        </p:txBody>
      </p:sp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De Magere Brug over de Ams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524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064-8E35-4998-B38A-1D5D508BE4B3}" type="slidenum">
              <a:t>2</a:t>
            </a:fld>
          </a:p>
        </p:txBody>
      </p:sp>
    </p:spTree>
  </p:cSld>
  <p:transition advTm="8000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1128600"/>
            <a:ext cx="7986600" cy="532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04720" y="260280"/>
            <a:ext cx="2262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9900"/>
                </a:solidFill>
                <a:latin typeface="Arial"/>
              </a:rPr>
              <a:t>De 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8E4-C9C7-48E7-B61D-D4B88A0C9B9B}" type="slidenum">
              <a:t>20</a:t>
            </a:fld>
          </a:p>
        </p:txBody>
      </p:sp>
    </p:spTree>
  </p:cSld>
  <p:transition advTm="8000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119640" cy="6021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2360" y="333360"/>
            <a:ext cx="7924320" cy="581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9900"/>
                </a:solidFill>
                <a:latin typeface="Arial"/>
              </a:rPr>
              <a:t>Multimedia Centre Theatre The Melkw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715-F53C-4801-A0E3-48E427A3F791}" type="slidenum">
              <a:t>21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1773360"/>
            <a:ext cx="2448000" cy="25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99cc00"/>
                </a:solidFill>
                <a:latin typeface="Arial"/>
              </a:rPr>
              <a:t>An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i="1" lang="nl-NL" sz="4400" spc="-1" strike="noStrike">
                <a:solidFill>
                  <a:srgbClr val="99cc00"/>
                </a:solidFill>
                <a:latin typeface="Arial"/>
              </a:rPr>
              <a:t>Fran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i="1" lang="nl-NL" sz="4400" spc="-1" strike="noStrike">
                <a:solidFill>
                  <a:srgbClr val="99cc00"/>
                </a:solidFill>
                <a:latin typeface="Arial"/>
              </a:rPr>
              <a:t>H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A2B-479D-46BF-AD79-AF4F4B1425DE}" type="slidenum">
              <a:t>22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99cc00"/>
                </a:solidFill>
                <a:latin typeface="Arial"/>
              </a:rPr>
              <a:t>Hous boot Hi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91480" cy="513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0D3-6B53-449B-890D-386DE049231C}" type="slidenum">
              <a:t>23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43360" y="0"/>
            <a:ext cx="48686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3429000"/>
            <a:ext cx="33116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8000"/>
                </a:solidFill>
                <a:latin typeface="Arial"/>
              </a:rPr>
              <a:t>Ook d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i="1" lang="nl-NL" sz="3200" spc="-1" strike="noStrike">
                <a:solidFill>
                  <a:srgbClr val="008000"/>
                </a:solidFill>
                <a:latin typeface="Arial"/>
              </a:rPr>
              <a:t>Amster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549360"/>
            <a:ext cx="5609160" cy="520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30-06-1951              23-09-2004  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454-1AB2-484D-94A9-6BF90EF39F9F}" type="slidenum">
              <a:t>24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600"/>
                            </p:stCondLst>
                            <p:childTnLst>
                              <p:par>
                                <p:cTn id="2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704360" cy="506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66520" y="189000"/>
            <a:ext cx="5461560" cy="64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8000"/>
                </a:solidFill>
                <a:latin typeface="Arial"/>
              </a:rPr>
              <a:t>Goeie vergelijking ze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4160" y="6078600"/>
            <a:ext cx="4469400" cy="520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8000"/>
                </a:solidFill>
                <a:latin typeface="Arial"/>
              </a:rPr>
              <a:t>Geef mij maar ne Duve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4F4-9782-4295-8BD8-EC90D101B99F}" type="slidenum">
              <a:t>25</a:t>
            </a:fld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99cc00"/>
                </a:solidFill>
                <a:latin typeface="Arial"/>
              </a:rPr>
              <a:t>Niet weg te denken in Mok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753080" cy="3841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95640" y="5516640"/>
            <a:ext cx="1409760" cy="10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4E8-7A72-45DF-927F-42ABBAB7671A}" type="slidenum">
              <a:t>26</a:t>
            </a:fld>
          </a:p>
        </p:txBody>
      </p:sp>
    </p:spTree>
  </p:cSld>
  <p:transition advTm="6000">
    <p:fade/>
    <p:sndAc>
      <p:stSnd>
        <p:snd r:embed="rId3" name="Marc%20Winter%20-%20De%20heilsoldaat%5B1%5D.wav"/>
      </p:stSnd>
    </p:sndAc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2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De strijdkr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392720" cy="4148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492360" y="5373720"/>
            <a:ext cx="2159280" cy="1454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300720" y="6165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Joop.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651640" y="6092640"/>
            <a:ext cx="57600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8A6-EF38-4DF0-AA2E-F662344B0C83}" type="slidenum">
              <a:t>27</a:t>
            </a:fld>
          </a:p>
        </p:txBody>
      </p:sp>
    </p:spTree>
  </p:cSld>
  <p:transition advTm="88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820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Dit was een expressie van de 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60 en 80 er jaren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 in Amsterdam.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Het is voorbij gevlogen de tijd.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Maar Amsterdam is Amsterdam niet meer .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En zo gaat het met alles ,maar de herinneringen, die zijn blijvend 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F77-4762-4F31-B6F6-72508C9040C5}" type="slidenum">
              <a:t>28</a:t>
            </a:fld>
          </a:p>
        </p:txBody>
      </p:sp>
    </p:spTree>
  </p:cSld>
  <p:transition advTm="20000">
    <p:fade/>
    <p:sndAc>
      <p:stSnd>
        <p:snd r:embed="rId1" name="rumbatambah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E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889440" cy="2549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9880" y="5661000"/>
            <a:ext cx="4578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9900"/>
                </a:solidFill>
                <a:latin typeface="Arial"/>
              </a:rPr>
              <a:t>Bern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20680" y="4941720"/>
            <a:ext cx="3480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33"/>
                </a:solidFill>
                <a:latin typeface="Arial"/>
              </a:rPr>
              <a:t>Met de Groeten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ACA-9F1F-4E4F-870E-2EF6ECBB49F7}" type="slidenum">
              <a:t>29</a:t>
            </a:fld>
          </a:p>
        </p:txBody>
      </p:sp>
    </p:spTree>
  </p:cSld>
  <p:transition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75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25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25"/>
                            </p:stCondLst>
                            <p:childTnLst>
                              <p:par>
                                <p:cTn id="30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6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De Sluis voor de Magere B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4560" y="1374840"/>
            <a:ext cx="6913440" cy="51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64A-82CD-4FB1-9CF1-908C54AB7E71}" type="slidenum">
              <a:t>3</a:t>
            </a:fld>
          </a:p>
        </p:txBody>
      </p:sp>
    </p:spTree>
  </p:cSld>
  <p:transition spd="med" advTm="10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Brauwersgracht  Jord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551640" cy="49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45B-3FEC-48DD-8A99-23EDEAEC971C}" type="slidenum">
              <a:t>4</a:t>
            </a:fld>
          </a:p>
        </p:txBody>
      </p:sp>
    </p:spTree>
  </p:cSld>
  <p:transition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89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Damra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4E6-9112-4510-B0EE-E464A9DCDAA2}" type="slidenum">
              <a:t>5</a:t>
            </a:fld>
          </a:p>
        </p:txBody>
      </p:sp>
    </p:spTree>
  </p:cSld>
  <p:transition advTm="9000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Schouwburg  Leidsepl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7480" y="1484280"/>
            <a:ext cx="6770520" cy="507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86F-53F8-479E-99C0-867A25AFCE4B}" type="slidenum">
              <a:t>6</a:t>
            </a:fld>
          </a:p>
        </p:txBody>
      </p:sp>
    </p:spTree>
  </p:cSld>
  <p:transition advTm="10000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5400" spc="-1" strike="noStrike">
                <a:solidFill>
                  <a:srgbClr val="ff9900"/>
                </a:solidFill>
                <a:latin typeface="Arial"/>
              </a:rPr>
              <a:t>Waterloople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512-82A8-4D4B-8DE8-DC4AEB1076D7}" type="slidenum">
              <a:t>7</a:t>
            </a:fld>
          </a:p>
        </p:txBody>
      </p:sp>
    </p:spTree>
  </p:cSld>
  <p:transition advTm="10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9120" y="-162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Nieuwmar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4560" y="907920"/>
            <a:ext cx="6913440" cy="5185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4480" y="6356520"/>
            <a:ext cx="8410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Hier was in de jaren 50  de Cotton Club gevestigd,  éérste Jazz Caf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F34-0E79-427A-95CB-4EDF50223814}" type="slidenum">
              <a:t>8</a:t>
            </a:fld>
          </a:p>
        </p:txBody>
      </p:sp>
    </p:spTree>
  </p:cSld>
  <p:transition advTm="12000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80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00"/>
                </a:solidFill>
                <a:latin typeface="Arial"/>
              </a:rPr>
              <a:t>Red light Distri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913440" cy="51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42D-39B3-4D3F-99C6-542B9CDBB7FC}" type="slidenum">
              <a:t>9</a:t>
            </a:fld>
          </a:p>
        </p:txBody>
      </p:sp>
    </p:spTree>
  </p:cSld>
  <p:transition advTm="10000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22:53:38Z</dcterms:created>
  <dc:creator>jos vervoort</dc:creator>
  <dc:description>http://users.telenet.be/powerpointjos</dc:description>
  <dc:language>en-US</dc:language>
  <cp:lastModifiedBy>Smets</cp:lastModifiedBy>
  <dcterms:modified xsi:type="dcterms:W3CDTF">2008-10-04T06:48:23Z</dcterms:modified>
  <cp:revision>5</cp:revision>
  <dc:subject/>
  <dc:title>Dia 1</dc:title>
</cp:coreProperties>
</file>