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E3C7-12D3-4CF4-BC94-2477FD0D0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6B0D-75CC-45DF-AC6F-908F186B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A7B4-4F6A-4225-9F28-8363506EE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E72D-3B3E-4B41-B1F0-61FDC2004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477E-FC47-465E-8151-3833968D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822F-7B98-4DFB-9EED-C2666502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0EA5-EB65-4818-B85E-53DDE397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01D9-FB99-4E76-A58C-55E57325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C552-32C7-4508-8017-E873F398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5FC9-62F7-4DE9-897C-B85C9064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6A09-5BB4-4504-AF7B-7AA04270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7A6A-040E-44F4-8FC9-10A85631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4C9F9E-7AAD-4D4F-8402-67238A44462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EB4893-BE0B-4E1B-A173-AC50AF892BC2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1T11:41:29Z</dcterms:created>
  <dc:creator>최봉수</dc:creator>
  <dc:description/>
  <dc:language>en-US</dc:language>
  <cp:lastModifiedBy>맛있다 군만두</cp:lastModifiedBy>
  <dcterms:modified xsi:type="dcterms:W3CDTF">2024-10-01T03:13:09Z</dcterms:modified>
  <cp:revision>3</cp:revision>
  <dc:subject/>
  <dc:title>슬라이드 1</dc:title>
</cp:coreProperties>
</file>