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2C8-4877-4B97-95AB-0DD93D58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1F4-4836-46A1-B56B-C690788E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85F-B728-407C-BB6A-C90BB1D9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F50-34B7-498E-9D3F-9ED5184D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41A-CADB-4B3C-819C-5604B041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AA3-DD30-405E-9C3A-0056017E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3A8-9BDF-4D52-88C4-5BC34762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8ED-831D-40FE-8A21-FE745387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A10-B97C-4F37-B015-E1FE786D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DFF-7F8F-4782-8975-02AFF6F6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580-E9BF-430D-9493-42E89011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095-9C6B-4B60-9D77-59AFFACF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EF129-628A-48F9-97C3-5293BF0885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7AB70-C9B4-477F-ABD3-700B0CE6088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41:29Z</dcterms:created>
  <dc:creator>최봉수</dc:creator>
  <dc:description/>
  <dc:language>en-US</dc:language>
  <cp:lastModifiedBy>맛있다 군만두</cp:lastModifiedBy>
  <dcterms:modified xsi:type="dcterms:W3CDTF">2024-10-01T03:13:09Z</dcterms:modified>
  <cp:revision>3</cp:revision>
  <dc:subject/>
  <dc:title>슬라이드 1</dc:title>
</cp:coreProperties>
</file>