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9C87-274E-4C69-B3D9-4677CC2E5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369B-0EE7-47B8-99C8-01C827272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9F58-6088-4DBB-9760-C0BD70CEF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D4A4-364C-45D2-B17D-B5CF638AF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DCE1-7FB2-4EFD-846B-4832C8688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B419-4628-4E84-A675-8FA60BC45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D6CE-55DF-4B97-8D9F-5875091CA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0D5B-9D98-48C5-B9F2-A47B5E51B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2357-307C-48A3-98D8-B41FF41D0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205A-5CB0-491C-93B7-4EE8467B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ADC1-92D9-4608-B02F-98805FB2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A9B5-8C07-4313-808A-4D61D7A7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77C5B3-1343-460D-9880-76F5E99259F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8571BC-3A26-4A3D-A77D-052AB64A28C2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image" Target="../media/image3.png"/><Relationship Id="rId6" Type="http://schemas.openxmlformats.org/officeDocument/2006/relationships/slide" Target="slide5.xml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1.xml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9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10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1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15:56:08Z</dcterms:created>
  <dc:creator>최봉수</dc:creator>
  <dc:description/>
  <dc:language>en-US</dc:language>
  <cp:lastModifiedBy>맛있다 군만두</cp:lastModifiedBy>
  <dcterms:modified xsi:type="dcterms:W3CDTF">2024-10-01T03:03:03Z</dcterms:modified>
  <cp:revision>4</cp:revision>
  <dc:subject/>
  <dc:title>슬라이드 1</dc:title>
</cp:coreProperties>
</file>