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7D8B-897C-442C-82F0-7D3F2F01B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0571-386A-415E-B5B9-AECF11128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F144-0E3A-4A82-A336-FE3C17371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113A-31C4-4C23-9472-F3D28C652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0900-CC4D-41B2-AD85-9329C58FB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4F59-661D-4A80-AC89-7A8D15D0C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CE4E-1FBD-460C-AAFE-79715D2F2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D605-837F-4DE6-875D-7DFC1064E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92D1-2103-46EF-8463-B69F9EE69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E62A-B70A-4BBD-AC8F-1FF977BC3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4002-AA02-496C-91D4-64D624A57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6209-74AC-477C-AA29-2CF992B81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9B4EFD-3E31-445B-94C5-A64395F1F00F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F4825D-CA72-4D9A-948D-F0094CCAA8DC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3.png"/><Relationship Id="rId4" Type="http://schemas.openxmlformats.org/officeDocument/2006/relationships/slide" Target="slide5.xml"/><Relationship Id="rId5" Type="http://schemas.openxmlformats.org/officeDocument/2006/relationships/image" Target="../media/image3.png"/><Relationship Id="rId6" Type="http://schemas.openxmlformats.org/officeDocument/2006/relationships/slide" Target="slide5.xml"/><Relationship Id="rId7" Type="http://schemas.openxmlformats.org/officeDocument/2006/relationships/slide" Target="slide3.xml"/><Relationship Id="rId8" Type="http://schemas.openxmlformats.org/officeDocument/2006/relationships/image" Target="../media/image3.png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1.xml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50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53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7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0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63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66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9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0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3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76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79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3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6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89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92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5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6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9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1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02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4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05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8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09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12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4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15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7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18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17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1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22" name="Picture 6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4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25" name="Picture 9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Text Box 10">
              <a:hlinkClick r:id="rId6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7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28" name="Picture 12" descr="">
              <a:hlinkClick r:id="rId7" action="ppaction://hlinksldjump"/>
            </p:cNvPr>
            <p:cNvPicPr/>
            <p:nvPr/>
          </p:nvPicPr>
          <p:blipFill>
            <a:blip r:embed="rId8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Text Box 13">
              <a:hlinkClick r:id="rId9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31" name="Picture 15" descr=""/>
            <p:cNvPicPr/>
            <p:nvPr/>
          </p:nvPicPr>
          <p:blipFill>
            <a:blip r:embed="rId10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 Box 16">
              <a:hlinkClick r:id="rId11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4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35" name="Picture 6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7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38" name="Picture 9" descr=""/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0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41" name="Picture 12" descr=""/>
            <p:cNvPicPr/>
            <p:nvPr/>
          </p:nvPicPr>
          <p:blipFill>
            <a:blip r:embed="rId5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13"/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3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44" name="Picture 15" descr=""/>
            <p:cNvPicPr/>
            <p:nvPr/>
          </p:nvPicPr>
          <p:blipFill>
            <a:blip r:embed="rId6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Text Box 16"/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8T15:56:08Z</dcterms:created>
  <dc:creator>최봉수</dc:creator>
  <dc:description/>
  <dc:language>en-US</dc:language>
  <cp:lastModifiedBy>맛있다 군만두</cp:lastModifiedBy>
  <dcterms:modified xsi:type="dcterms:W3CDTF">2024-10-01T03:03:03Z</dcterms:modified>
  <cp:revision>4</cp:revision>
  <dc:subject/>
  <dc:title>슬라이드 1</dc:title>
</cp:coreProperties>
</file>