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driveby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7E61-ADF1-42E6-9970-1C5CB90B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F7FF-DCAF-4C88-A9CB-48E7EA6D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E34C-2EEA-4CD5-B3B4-68B63A98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37160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355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6998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533A-3A1C-4EEB-8355-0BAF8E00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1C1F-0655-41A4-A19A-E8153CEC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E246-FDD1-4FD5-A393-559E55D0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1401-A156-43F4-998E-77C97C76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7474-5C20-4175-81BD-5C542B43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91B1-F992-4DEA-9D01-7C78FA6D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664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9412-F8FD-4571-AA6B-80F0B80B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60D2-F404-4789-B22B-34CAA7AE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D3B9-991E-428A-A089-2E24EAC6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82E8-E212-48EF-BD2B-0EB8F7A1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2A3C-EA5F-4DA5-9168-045551DD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494F-8D16-4DD2-A9DB-2ABC16B2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6558-6E01-4AF4-9A60-61273C2C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37160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355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6998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E981-3D27-452E-A249-4C0F2E7C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FD7C-DFC7-42DD-8AEF-540AB587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448-A7A0-43B6-BF46-7DB75124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0FC-75A4-4047-B23D-F57FFD3B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664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AEC-EE23-48A1-AC4E-8586401D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9593-8E15-4027-98AB-6148BE7F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515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E43-E411-4BE0-B1FE-F377DFFF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BB4-BF32-4C83-9C95-798E19D7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F2DE-B0A2-4815-AEBB-5C5E74758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3DEC-0A26-4997-901E-870E81F62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ca8"/>
            </a:gs>
            <a:gs pos="50000">
              <a:srgbClr val="ffffcc"/>
            </a:gs>
            <a:gs pos="100000">
              <a:srgbClr val="007c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MATERI KULIAH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RSITEKTUR TROP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op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TRATEGI DALAM PERANCANGAN BANGUNAN TROP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4495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5a86"/>
                </a:solidFill>
                <a:latin typeface="Times New Roman"/>
              </a:rPr>
              <a:t>ole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5a86"/>
                </a:solidFill>
                <a:latin typeface="Times New Roman"/>
              </a:rPr>
              <a:t>Amin Sumadyo, ST.M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50004" b="0"/>
          <a:stretch/>
        </p:blipFill>
        <p:spPr>
          <a:xfrm>
            <a:off x="4716360" y="981000"/>
            <a:ext cx="4184640" cy="5562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4643280" cy="3484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andingkan kedua bangunan 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876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75"/>
                </a:solidFill>
                <a:latin typeface="Tahoma"/>
              </a:rPr>
              <a:t>ASPEK IKLIM DALAM PERANCANGAN BANGUNAN TROP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905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MATAHAR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Pembayang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Pemanasan /pendingi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Orientasi atap pemana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657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1676520"/>
            <a:ext cx="2590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NGI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Gerakan angin kawa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Aliran udara dalam bangu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reatment udara sej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istribusi/perataan/kecepatan udara i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Pengarah angin/ud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Aliran udara vertikal dalam banguna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1676520"/>
            <a:ext cx="2590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CAHAY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istribusi &amp;kuantitas pencahaya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Pencahayaan tanpa glare &amp;p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Karakter visual elemen bangunan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876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75"/>
                </a:solidFill>
                <a:latin typeface="Tahoma"/>
              </a:rPr>
              <a:t>ASPEK MIKRO IKLI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empera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Kelembaban ud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Kecepatan aliran ud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adiasi matah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uminansi lang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Kondisi akustik kawas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3657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876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75"/>
                </a:solidFill>
                <a:latin typeface="Tahoma"/>
              </a:rPr>
              <a:t>ASPEK IKLIM EKSTRIM TROP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Faktor ekstrim alam yang ikut mempengaruhi bangun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KONDENS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NGIN /BADAI TROP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RANG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GEMPA B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ET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657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876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99"/>
                </a:solidFill>
                <a:latin typeface="Tahoma"/>
              </a:rPr>
              <a:t>METODA PENDEKATAN DALAM MEMAHAMI BANGUNAN TROP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DENTIFIKASI BANGUNAN TROPIS yang ditinjau berdasarkan kajian ASPEK IKLIM TROP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angunan yang dapat dika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angunan tradi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angunan tradisional vernak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angunan vernakular tro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angunan modern tro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angunan kolon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emukiman /desa tropi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3657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vantGarde Md BT"/>
              </a:rPr>
              <a:t>ASPEK IKLIM DALAM PERANCANGAN BANGUNAN</a:t>
            </a:r>
            <a:r>
              <a:rPr b="0" lang="en-US" sz="4400" spc="-1" strike="noStrike">
                <a:solidFill>
                  <a:srgbClr val="99ff33"/>
                </a:solidFill>
                <a:latin typeface="AvantGarde Md B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ASPEK IKLIM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ASPEK PERENC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DESAIN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   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MATAHARI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 pembayangan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 overhang, tritis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 ketinggian massa b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 pemanasan/pendinginan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 pemilihan mater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 bidang ternaungi/eks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 area beda temperat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 orientasi atap pemanasan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- orientasi massa ba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ANGIN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gerakan angin kawasan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jarak antar bangu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orientasi massa b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aliran udr dlm bangunan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penataan perab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banyak buka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treatment udara sejuk   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ground covering, veget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bidang air /pengu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landscape penau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distribusi/perataan/kec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dimensi, penempata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udara interior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  &amp; jarak buka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aliran udara vertikal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pelobangan plaf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desain 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pengarah angin /udara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desain daun jende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- penataan veget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vantGarde Md BT"/>
              </a:rPr>
              <a:t>ASPEK IKLIM DALAM PERANCANGAN BANGUNAN</a:t>
            </a:r>
            <a:r>
              <a:rPr b="0" lang="en-US" sz="4400" spc="-1" strike="noStrike">
                <a:solidFill>
                  <a:srgbClr val="99ff33"/>
                </a:solidFill>
                <a:latin typeface="AvantGarde Md B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ASPEK IKLIM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ASPEK PERENC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DESAIN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   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CAHAYA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- distribusi &amp;kuantitas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- lebar rua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pencahayaan alami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- dimensi buka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- ketinggian jend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- pencahayaan tanpa glare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- sun sh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&amp; panas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- hor/ver bl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- karakter visual elemen bang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- desain /penempat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lubang pencahaya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- pengarah cahay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ca8"/>
            </a:gs>
            <a:gs pos="50000">
              <a:srgbClr val="ffffcc"/>
            </a:gs>
            <a:gs pos="100000">
              <a:srgbClr val="007c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00f"/>
                </a:solidFill>
                <a:latin typeface="Tahoma"/>
              </a:rPr>
              <a:t>SELES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vantGarde Md BT"/>
              </a:rPr>
              <a:t>Sampai jump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3:03:56Z</dcterms:created>
  <dc:creator>LPIU DUE PROJECT UNS SOLO</dc:creator>
  <dc:description/>
  <dc:language>en-US</dc:language>
  <cp:lastModifiedBy>Arsitektur</cp:lastModifiedBy>
  <dcterms:modified xsi:type="dcterms:W3CDTF">2010-11-01T00:46:49Z</dcterms:modified>
  <cp:revision>54</cp:revision>
  <dc:subject/>
  <dc:title>[DAYLIGHTING]</dc:title>
</cp:coreProperties>
</file>