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F86-58D8-4552-98E2-AEFECC32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30A-C020-44A5-9AA1-02589E0B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AFE-BF91-40F5-BC92-3E6CBE7A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1EA-6EB9-46A0-B485-A81A0AC0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44D-DF51-42AF-AE94-E010C6D1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229-2534-4156-821B-83D1EE7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5A7-49D7-413E-B754-D8AA3FC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9EC-3481-4F79-B4BF-253FDD75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8D30-3BB8-46DE-8747-BA9DBD01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71AC-8E51-42C4-8570-E0B56CD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40E7-98CC-4F39-886A-086B292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681-BD9B-4093-8022-72D3E75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9E1-8D3F-4977-92A6-96ACC54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A10C-01F3-4F4F-ADED-18D6D23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B739-3D32-4194-8F7C-31F897E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376-451C-4062-BCCB-60F0F9F2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241-A6C3-44C5-B6B8-B5892B7B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8B4-1FFA-4BAB-82CD-CD26775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30C-2D90-4816-A166-C851BD9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626-7962-492D-973B-60BEBFC5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284-94E6-4F49-BBEC-4C0A5C6D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D8A-1452-4AFF-9C55-6E7C0B3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6D5-471B-42D9-96A6-75E194F9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755-7827-4D74-A775-E9014CD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09F-7B1F-41CF-A313-1A276EA5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945-9801-4F2E-8206-269F8539C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ca8"/>
            </a:gs>
            <a:gs pos="50000">
              <a:srgbClr val="ffffcc"/>
            </a:gs>
            <a:gs pos="100000">
              <a:srgbClr val="007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ATERI KULIAH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SITEKTUR TROP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p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RATEGI DALAM PERANCANGAN BANGUNAN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495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a86"/>
                </a:solidFill>
                <a:latin typeface="Times New Roman"/>
              </a:rPr>
              <a:t>ol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a86"/>
                </a:solidFill>
                <a:latin typeface="Times New Roman"/>
              </a:rPr>
              <a:t>Amin Sumadyo, ST.M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50004" b="0"/>
          <a:stretch/>
        </p:blipFill>
        <p:spPr>
          <a:xfrm>
            <a:off x="4716360" y="981000"/>
            <a:ext cx="4184640" cy="556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ndingkan kedua bangunan 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75"/>
                </a:solidFill>
                <a:latin typeface="Tahoma"/>
              </a:rPr>
              <a:t>ASPEK IKLIM DALAM PERANCANGAN BANGUNAN TROP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90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TAHAR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mbayan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manasan /pending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rientasi atap pemana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676520"/>
            <a:ext cx="259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G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Gerakan angin kawa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liran udara dalam bangu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reatment udara sej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ribusi/perataan/kecepatan udara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ngarah angin/ud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liran udara vertikal dalam banguna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676520"/>
            <a:ext cx="259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AHAY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ribusi &amp;kuantitas pencahay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ncahayaan tanpa glare &amp;p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Karakter visual elemen bangunan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75"/>
                </a:solidFill>
                <a:latin typeface="Tahoma"/>
              </a:rPr>
              <a:t>ASPEK MIKRO IKLI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mpera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elembaban ud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ecepatan aliran ud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diasi matah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uminansi lan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ondisi akustik kaw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75"/>
                </a:solidFill>
                <a:latin typeface="Tahoma"/>
              </a:rPr>
              <a:t>ASPEK IKLIM EKSTRIM TROP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aktor ekstrim alam yang ikut mempengaruhi bangun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ONDENS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GIN /BADAI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RANG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MPA B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Tahoma"/>
              </a:rPr>
              <a:t>METODA PENDEKATAN DALAM MEMAHAMI BANGUNAN TROP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IKASI BANGUNAN TROPIS yang ditinjau berdasarkan kajian ASPEK IKLIM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gunan yang dapat dika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trad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tradisional vernak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vernakular tro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modern tro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kolon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emukiman /desa tropi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vantGarde Md BT"/>
              </a:rPr>
              <a:t>ASPEK IKLIM DALAM PERANCANGAN BANGUNAN</a:t>
            </a:r>
            <a:r>
              <a:rPr b="0" lang="en-US" sz="4400" spc="-1" strike="noStrike">
                <a:solidFill>
                  <a:srgbClr val="99ff33"/>
                </a:solidFill>
                <a:latin typeface="AvantGarde Md B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IKLIM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PERENC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DESAIN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AHAR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bayangan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verhang, triti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ketinggian massa b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anasan/pendinginan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ilihan mate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bidang ternaungi/eks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area beda tempera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rientasi atap pemanasan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rientasi massa ba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ANGI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gerakan angin kawasa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jarak antar bangu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orientasi massa b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aliran udr dlm banguna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ataan per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banyak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treatment udara sejuk  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ground covering, vege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bidang air /pengu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landscape penau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istribusi/perataan/kec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imensi, penempat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udara interior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 &amp; jarak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aliran udara vertikal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lobangan plaf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esain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garah angin /udara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esain daun jende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ataan vege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vantGarde Md BT"/>
              </a:rPr>
              <a:t>ASPEK IKLIM DALAM PERANCANGAN BANGUNAN</a:t>
            </a:r>
            <a:r>
              <a:rPr b="0" lang="en-US" sz="4400" spc="-1" strike="noStrike">
                <a:solidFill>
                  <a:srgbClr val="99ff33"/>
                </a:solidFill>
                <a:latin typeface="AvantGarde Md B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IKLIM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PERENC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DESAIN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CAHAYA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istribusi &amp;kuantitas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lebar r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pencahayaan alami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imensi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ketinggian jen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pencahayaan tanpa glare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sun sh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&amp; panas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hor/ver bl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karakter visual elemen bang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esain /penemp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lubang pencahay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pengarah cah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ca8"/>
            </a:gs>
            <a:gs pos="50000">
              <a:srgbClr val="ffffcc"/>
            </a:gs>
            <a:gs pos="100000">
              <a:srgbClr val="007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00f"/>
                </a:solidFill>
                <a:latin typeface="Tahoma"/>
              </a:rPr>
              <a:t>SELES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vantGarde Md BT"/>
              </a:rPr>
              <a:t>Sampai jum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03:56Z</dcterms:created>
  <dc:creator>LPIU DUE PROJECT UNS SOLO</dc:creator>
  <dc:description/>
  <dc:language>en-US</dc:language>
  <cp:lastModifiedBy>Arsitektur</cp:lastModifiedBy>
  <dcterms:modified xsi:type="dcterms:W3CDTF">2010-11-01T00:46:49Z</dcterms:modified>
  <cp:revision>54</cp:revision>
  <dc:subject/>
  <dc:title>[DAYLIGHTING]</dc:title>
</cp:coreProperties>
</file>