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8A86-3BEF-416E-89C9-D9FF75A1A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D46D-90A8-4DAC-91EC-6E3788D4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B454-A5AB-4AE6-A515-DF2F5A5F0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49E2-18A6-4E33-ACA6-900E5090E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D067-C831-45DA-BC4D-52663356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014A-CABB-41D6-820C-C767B2BE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A19C-4D6F-4728-899D-3F0CAD64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0B27-4549-4F30-8CA9-5AFE6E25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FD73-042C-4077-BA5F-352516CC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82FD-61EE-42C3-94FE-E7BB8C48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85AF-D05D-47EF-945C-02281180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9EB9-5C7C-4603-8570-94124A8E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7CFF35-A8AC-4F1D-B2BE-E056A1B3E68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8558F3-60EF-4E0B-8A64-6488604CD46F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" Target="slide7.xml"/><Relationship Id="rId13" Type="http://schemas.openxmlformats.org/officeDocument/2006/relationships/image" Target="../media/image3.png"/><Relationship Id="rId14" Type="http://schemas.openxmlformats.org/officeDocument/2006/relationships/slide" Target="slide9.xml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56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88" name="Picture 6" descr=""/>
            <p:cNvPicPr/>
            <p:nvPr/>
          </p:nvPicPr>
          <p:blipFill>
            <a:blip r:embed="rId2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7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91" name="Picture 9" descr=""/>
            <p:cNvPicPr/>
            <p:nvPr/>
          </p:nvPicPr>
          <p:blipFill>
            <a:blip r:embed="rId3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10"/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94" name="Picture 12" descr=""/>
            <p:cNvPicPr/>
            <p:nvPr/>
          </p:nvPicPr>
          <p:blipFill>
            <a:blip r:embed="rId4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13"/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97" name="Picture 15" descr=""/>
            <p:cNvPicPr/>
            <p:nvPr/>
          </p:nvPicPr>
          <p:blipFill>
            <a:blip r:embed="rId5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16"/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200" name="Picture 18" descr=""/>
            <p:cNvPicPr/>
            <p:nvPr/>
          </p:nvPicPr>
          <p:blipFill>
            <a:blip r:embed="rId6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19"/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6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6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6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69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72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7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7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8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85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88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9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9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9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01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04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0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1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1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17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20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2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2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3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33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36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4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4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4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49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52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5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5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6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65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68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7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7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7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10">
              <a:hlinkClick r:id="rId6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7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3">
              <a:hlinkClick r:id="rId9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81" name="Picture 15" descr=""/>
            <p:cNvPicPr/>
            <p:nvPr/>
          </p:nvPicPr>
          <p:blipFill>
            <a:blip r:embed="rId10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16">
              <a:hlinkClick r:id="rId11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84" name="Picture 18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9">
              <a:hlinkClick r:id="rId14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16:36:39Z</dcterms:created>
  <dc:creator>최봉수</dc:creator>
  <dc:description/>
  <dc:language>en-US</dc:language>
  <cp:lastModifiedBy>맛있다 군만두</cp:lastModifiedBy>
  <dcterms:modified xsi:type="dcterms:W3CDTF">2023-07-13T08:54:08Z</dcterms:modified>
  <cp:revision>3</cp:revision>
  <dc:subject/>
  <dc:title>슬라이드 1</dc:title>
</cp:coreProperties>
</file>