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A15-A9DE-4724-B3BB-FEDA00D0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315-0BBD-4A6D-B446-9BE2A051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34E-21B7-41B7-989E-985E7401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1B3-EB9F-48C9-A790-A081C412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DE2-4A7E-4B85-BE77-4D3B9CAA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334-1558-4678-B36C-FD06BC84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622-5556-48F8-A4CB-9BE8E5E7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7E86-3C8A-4653-AC29-933CD081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DB5-B9F4-4F22-9CE0-DBB80581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7C7-EC5C-4EC4-8B1E-85F11BED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73D-9500-4AD7-AC37-689C3DB0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D9D-458D-4AE0-80E6-D873CE43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4B335-5D8D-4334-9657-98DF4E450C7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C662B-E84A-4AFB-A06D-99CDD2C40D1B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3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" Target="slide7.xml"/><Relationship Id="rId13" Type="http://schemas.openxmlformats.org/officeDocument/2006/relationships/image" Target="../media/image3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8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9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9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9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00" name="Picture 18" descr=""/>
            <p:cNvPicPr/>
            <p:nvPr/>
          </p:nvPicPr>
          <p:blipFill>
            <a:blip r:embed="rId6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3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3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3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4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4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4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4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5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6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6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7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7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0">
              <a:hlinkClick r:id="rId6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7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3">
              <a:hlinkClick r:id="rId9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81" name="Picture 15" descr=""/>
            <p:cNvPicPr/>
            <p:nvPr/>
          </p:nvPicPr>
          <p:blipFill>
            <a:blip r:embed="rId10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6">
              <a:hlinkClick r:id="rId11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84" name="Picture 1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>
              <a:hlinkClick r:id="rId14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6:36:39Z</dcterms:created>
  <dc:creator>최봉수</dc:creator>
  <dc:description/>
  <dc:language>en-US</dc:language>
  <cp:lastModifiedBy>맛있다 군만두</cp:lastModifiedBy>
  <dcterms:modified xsi:type="dcterms:W3CDTF">2023-07-13T08:54:08Z</dcterms:modified>
  <cp:revision>3</cp:revision>
  <dc:subject/>
  <dc:title>슬라이드 1</dc:title>
</cp:coreProperties>
</file>