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7D0-7F39-4AE4-990E-EED77941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F36-5F3B-45FE-913A-1D99CC6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E53-84B4-470C-8D63-094457BD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7D5-CACF-4B7E-9C77-4339E1F6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00E-0252-4CED-AF69-D103C69E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095-DDDD-4195-B96F-169C51A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150-2F0B-45E5-A9FD-144B208F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EAF-F4A1-4581-B6A4-1C83DF8A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F32-BC58-44DD-B593-BED60292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553-B8E0-4E4B-BDFA-C5A6F913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57A9-7B0F-4120-BDC8-94A56EDD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A6F-2CFE-4976-9F9A-AB19887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C140D-B9DB-4B38-BE58-B20BCC41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C49AA-06FE-432C-A035-B7A3856BE5C5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5:46:52Z</dcterms:created>
  <dc:creator>최봉수</dc:creator>
  <dc:description/>
  <dc:language>en-US</dc:language>
  <cp:lastModifiedBy>군만두 맛있다</cp:lastModifiedBy>
  <dcterms:modified xsi:type="dcterms:W3CDTF">2023-07-12T04:04:52Z</dcterms:modified>
  <cp:revision>2</cp:revision>
  <dc:subject/>
  <dc:title>슬라이드 1</dc:title>
</cp:coreProperties>
</file>