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5BB-44F8-4E64-8F6B-19DB8073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DF4-F8A7-47F4-A860-DA5DFA7B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6E5-B47F-4997-AC09-4FBDF68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687-1FFA-413E-9D4E-6072CAFC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B3E-8328-4108-A61A-6C3895E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C2C-D859-4F56-B8B1-2A4C2ED6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CC8-66DD-41FD-8E01-964E8B2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8366-E3CF-4441-BB57-F67A2EAC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758-ABED-4498-BB31-EAE746E7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AF2-7481-4685-BEAD-39BC6AF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B93-562A-42AA-9083-476D652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E2D-6B70-4926-BF1D-D3AED69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66DC9-2FCA-46C5-8BC7-2C205297E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0979B-4D2F-4971-A1F4-FDD24641FCC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46:52Z</dcterms:created>
  <dc:creator>최봉수</dc:creator>
  <dc:description/>
  <dc:language>en-US</dc:language>
  <cp:lastModifiedBy>군만두 맛있다</cp:lastModifiedBy>
  <dcterms:modified xsi:type="dcterms:W3CDTF">2023-07-12T04:04:52Z</dcterms:modified>
  <cp:revision>2</cp:revision>
  <dc:subject/>
  <dc:title>슬라이드 1</dc:title>
</cp:coreProperties>
</file>