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8E61-B076-4B5A-BD9D-684F6C9DB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559E-51D4-4F0C-ACAE-B6D697E0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2F54-BB86-451B-8E00-CDE073BD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391F-1A47-4574-9642-715E85000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6ADB-7B3F-407E-9321-9A31CF15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3F85-35F4-4B33-9247-852AC1A5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9FD4-5B9F-40DE-B098-B28B68AA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E8E4-51C0-4E6B-A19F-00B5D6D6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B3B3-A161-4E6A-88E9-F1BA1F16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5B0E-F80C-4CD3-9B79-A7B1DC39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0A5A-349A-42E5-B898-9CBECF71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2590-7744-478D-BBCA-5AED1A47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18F9A5-BCF2-4377-9D0E-63DFA3C4C1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8B9987-80F0-4F3D-BD32-4DBA010BAC9B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5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8:47:05Z</dcterms:created>
  <dc:creator>최봉수</dc:creator>
  <dc:description/>
  <dc:language>en-US</dc:language>
  <cp:lastModifiedBy>군만두 맛있다</cp:lastModifiedBy>
  <dcterms:modified xsi:type="dcterms:W3CDTF">2023-07-12T05:55:45Z</dcterms:modified>
  <cp:revision>2</cp:revision>
  <dc:subject/>
  <dc:title>슬라이드 1</dc:title>
</cp:coreProperties>
</file>