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B2F6-3DA3-4A66-BC12-C93B9248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237D-66CB-4ED2-A4D9-B4DD120D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BD2B-71E3-479E-8A35-8DD8F8CB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0660-AFEF-4CE2-89FE-8B3913DC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B3E9-DCF4-479D-B9DE-12FE74FE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B02-11EF-4788-9311-43A82A45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7E6-2190-421F-AB60-1B44BB2A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636-AC0C-4A58-9D8A-93B7BED6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5C80-A6FE-4E5B-B6D2-6AFF912E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B15-888F-4838-8A11-767811B8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6FA-E8BF-4DDC-B68F-E68DE9CC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2EF-2B06-418D-978C-24F37033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48B49-28D4-4F97-B4A8-65CF22274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7D761-C073-4B48-BF90-2053D688FCD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8:47:05Z</dcterms:created>
  <dc:creator>최봉수</dc:creator>
  <dc:description/>
  <dc:language>en-US</dc:language>
  <cp:lastModifiedBy>군만두 맛있다</cp:lastModifiedBy>
  <dcterms:modified xsi:type="dcterms:W3CDTF">2023-07-12T05:55:45Z</dcterms:modified>
  <cp:revision>2</cp:revision>
  <dc:subject/>
  <dc:title>슬라이드 1</dc:title>
</cp:coreProperties>
</file>