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2A4-7ED4-4B05-91CB-1C03821D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740-8818-4CC6-970B-DA7B22E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D4D-0FFB-4FE9-A8E0-B4F92CB8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2A4-A2BA-42F9-9461-6F1A3809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9F6-258B-4E4A-81A8-B439424B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9B7-5AA1-463F-928E-4609433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4A3-CEC6-4A59-84FC-5A50860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325-07FF-4CF4-9F06-26A75531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72F-F6DE-46D0-9AE1-6B21940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D6A-D51A-4734-B0BA-15D2DED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F41-D662-48FE-8F1C-E32AE77B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2AF-22B3-4C29-9D73-D2A8F37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07747-34B8-4A26-B5D2-91FEC6C7BC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94D94-5368-430A-9E10-449C03AF8D9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18" descr="148-1-1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6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Picture 19" descr="148-4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79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2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Picture 17" descr="148-4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6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89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2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5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17" descr="148-후렴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148-1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8" descr="148-2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29" descr="148-2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2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27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8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7" descr="148-3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17" descr="148-3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8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7:57:02Z</dcterms:modified>
  <cp:revision>5</cp:revision>
  <dc:subject/>
  <dc:title>슬라이드 1</dc:title>
</cp:coreProperties>
</file>