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3401-FEDC-4574-A53A-EDF33CFFE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46FE-4C82-4AD1-B9D8-9DF4EC5A5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B100-8B6A-4267-BC4D-7F87BF717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17A9-FF53-44E7-BDB5-97E49A97F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CEC4-5A3A-439D-A219-04C53BDF6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E1CC-2D4F-4470-8B63-8D604AD10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CA4F-9B8D-4263-A8DD-1526C17DD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52C2-9BDE-48A0-8D2E-8FD56EE0D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3683-CDD6-4178-AEC9-DAED73474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7599-BD01-4FDB-978D-AC97D9C2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02A1-8250-4827-9F91-E474116B6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8F9D-3225-4F5C-8EBF-D81E7CD9F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61F14F-920F-4411-ACDF-44903185D48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4680" y="63594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9650EC-824C-46C7-A208-B3B4B97C2742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10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4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10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4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" Target="slide3.xml"/><Relationship Id="rId5" Type="http://schemas.openxmlformats.org/officeDocument/2006/relationships/image" Target="../media/image2.png"/><Relationship Id="rId6" Type="http://schemas.openxmlformats.org/officeDocument/2006/relationships/slide" Target="slide4.xml"/><Relationship Id="rId7" Type="http://schemas.openxmlformats.org/officeDocument/2006/relationships/image" Target="../media/image2.png"/><Relationship Id="rId8" Type="http://schemas.openxmlformats.org/officeDocument/2006/relationships/slide" Target="slide1.xml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10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4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image" Target="../media/image4.png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10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4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image" Target="../media/image5.pn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10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4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10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4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10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4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image" Target="../media/image5.pn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10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4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10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4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10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7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4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image" Target="../media/image5.pn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49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2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4" name="Picture 18" descr="148-1-1"/>
          <p:cNvPicPr/>
          <p:nvPr/>
        </p:nvPicPr>
        <p:blipFill>
          <a:blip r:embed="rId13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6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6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6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69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71" name="Picture 19" descr="148-4-1 copy"/>
          <p:cNvPicPr/>
          <p:nvPr/>
        </p:nvPicPr>
        <p:blipFill>
          <a:blip r:embed="rId13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73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76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79" name="Picture 12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Text Box 13">
              <a:hlinkClick r:id="rId6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82" name="Picture 15" descr=""/>
            <p:cNvPicPr/>
            <p:nvPr/>
          </p:nvPicPr>
          <p:blipFill>
            <a:blip r:embed="rId7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Text Box 16">
              <a:hlinkClick r:id="rId8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84" name="Picture 17" descr="148-4-2 copy"/>
          <p:cNvPicPr/>
          <p:nvPr/>
        </p:nvPicPr>
        <p:blipFill>
          <a:blip r:embed="rId9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Group 17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86" name="Picture 18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 Box 19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8" name="Group 20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89" name="Picture 21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Text Box 22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1" name="Group 23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92" name="Picture 24" descr=""/>
            <p:cNvPicPr/>
            <p:nvPr/>
          </p:nvPicPr>
          <p:blipFill>
            <a:blip r:embed="rId4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Text Box 25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4" name="Group 26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95" name="Picture 27" descr=""/>
            <p:cNvPicPr/>
            <p:nvPr/>
          </p:nvPicPr>
          <p:blipFill>
            <a:blip r:embed="rId5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Text Box 28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97" name="Picture 17" descr="148-후렴 copy"/>
          <p:cNvPicPr/>
          <p:nvPr/>
        </p:nvPicPr>
        <p:blipFill>
          <a:blip r:embed="rId6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6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9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2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5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7" name="Picture 17" descr="148-1-2 copy"/>
          <p:cNvPicPr/>
          <p:nvPr/>
        </p:nvPicPr>
        <p:blipFill>
          <a:blip r:embed="rId13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9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2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5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8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0" name="Picture 17" descr="148-후렴 copy"/>
          <p:cNvPicPr/>
          <p:nvPr/>
        </p:nvPicPr>
        <p:blipFill>
          <a:blip r:embed="rId13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2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5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8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1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3" name="Picture 18" descr="148-2-1 copy"/>
          <p:cNvPicPr/>
          <p:nvPr/>
        </p:nvPicPr>
        <p:blipFill>
          <a:blip r:embed="rId13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5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8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1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4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6" name="Picture 29" descr="148-2-2 copy"/>
          <p:cNvPicPr/>
          <p:nvPr/>
        </p:nvPicPr>
        <p:blipFill>
          <a:blip r:embed="rId13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8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1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4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7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9" name="Picture 17" descr="148-후렴 copy"/>
          <p:cNvPicPr/>
          <p:nvPr/>
        </p:nvPicPr>
        <p:blipFill>
          <a:blip r:embed="rId13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17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1" name="Picture 18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Text Box 19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3" name="Group 20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4" name="Picture 21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22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" name="Group 23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7" name="Picture 24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25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" name="Group 26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0" name="Picture 27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28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2" name="Picture 17" descr="148-3-1 copy"/>
          <p:cNvPicPr/>
          <p:nvPr/>
        </p:nvPicPr>
        <p:blipFill>
          <a:blip r:embed="rId13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3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5" name="Picture 17" descr="148-3-2 copy"/>
          <p:cNvPicPr/>
          <p:nvPr/>
        </p:nvPicPr>
        <p:blipFill>
          <a:blip r:embed="rId13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47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50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53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56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58" name="Picture 17" descr="148-후렴 copy"/>
          <p:cNvPicPr/>
          <p:nvPr/>
        </p:nvPicPr>
        <p:blipFill>
          <a:blip r:embed="rId13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8T09:14:46Z</dcterms:created>
  <dc:creator>최봉수</dc:creator>
  <dc:description/>
  <dc:language>en-US</dc:language>
  <cp:lastModifiedBy>맛있다 군만두</cp:lastModifiedBy>
  <dcterms:modified xsi:type="dcterms:W3CDTF">2024-09-24T07:57:02Z</dcterms:modified>
  <cp:revision>5</cp:revision>
  <dc:subject/>
  <dc:title>슬라이드 1</dc:title>
</cp:coreProperties>
</file>